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71640" y="2133720"/>
            <a:ext cx="74167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rbeit und Projekte organis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dwig 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549360"/>
            <a:ext cx="741672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Wie geht man bei Projekten mit Risik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. Welches sind die Grundregeln effekti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lan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. Wo lauern die schlimmsten Zeitfress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. Was ist bei der Durchführung v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sprechungen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7. Wie können Prioritäten gesetzt u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ingehalten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. Wie kann eine wesentliche Verbesser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Arbeitsergebnisse erziel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2133720"/>
            <a:ext cx="74167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rbeit und Projekte organis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dwig 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04720"/>
            <a:ext cx="9144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Zeit-Management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beit und Projekte organisier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1484280"/>
            <a:ext cx="6265800" cy="491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860640"/>
            <a:ext cx="62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48428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3240" y="63752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7600" y="63752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5480" y="488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281520" y="24174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582120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580536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8360" y="1573200"/>
            <a:ext cx="43200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162864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04720"/>
            <a:ext cx="9144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Zeit-Management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beit und Projekte organisier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1484280"/>
            <a:ext cx="6265800" cy="491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3860640"/>
            <a:ext cx="62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48428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35560" y="6381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ht drin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7600" y="63752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7520" y="45363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ht w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1520" y="24174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582120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573200"/>
            <a:ext cx="43200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162864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82680" y="2511360"/>
            <a:ext cx="5376960" cy="3870360"/>
          </a:xfrm>
          <a:prstGeom prst="rect">
            <a:avLst/>
          </a:prstGeom>
          <a:solidFill>
            <a:srgbClr val="0099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00120" y="2565360"/>
            <a:ext cx="489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rausforderun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v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 Anrufe, Pos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nl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9280" y="3989520"/>
            <a:ext cx="40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öllige Verantwortungslos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n anderen abhäng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d gekündi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97960" y="5373720"/>
            <a:ext cx="257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ty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verantwortli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tverschw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504720"/>
            <a:ext cx="9144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Zeit-Management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beit und Projekte organisier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1484280"/>
            <a:ext cx="6265800" cy="491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860640"/>
            <a:ext cx="62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148428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3240" y="63752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8520" y="6381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-317520" y="49680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ht w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281520" y="24174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82120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580536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1573200"/>
            <a:ext cx="43200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162864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7760" y="2511360"/>
            <a:ext cx="5376960" cy="3870360"/>
          </a:xfrm>
          <a:prstGeom prst="rect">
            <a:avLst/>
          </a:prstGeom>
          <a:solidFill>
            <a:srgbClr val="0099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2492280"/>
            <a:ext cx="528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rausforderun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inbare Kr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mute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, Anrufe, Pos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3480" y="3860640"/>
            <a:ext cx="42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anentes Krisen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fe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rzfristige 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2040" y="523080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ty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forder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ter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04720"/>
            <a:ext cx="9144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Zeit-Management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beit und Projekte organisier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1484280"/>
            <a:ext cx="6265800" cy="491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860640"/>
            <a:ext cx="62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48428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3240" y="63752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5800" y="63565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5480" y="488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960" y="2197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582120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80536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1573200"/>
            <a:ext cx="43200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162864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47760" y="1484280"/>
            <a:ext cx="5376960" cy="4321080"/>
          </a:xfrm>
          <a:prstGeom prst="rect">
            <a:avLst/>
          </a:prstGeom>
          <a:solidFill>
            <a:srgbClr val="0099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1469880"/>
            <a:ext cx="56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rausforderun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nglich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 mit nahem Abgabeter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2200" y="2820960"/>
            <a:ext cx="304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brann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r am Feuerlö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cht nach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0760" y="4494240"/>
            <a:ext cx="375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ty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sen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orientierte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getriebene Scha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04720"/>
            <a:ext cx="9144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Zeit-Management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beit und Projekte organisier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1484280"/>
            <a:ext cx="6265800" cy="491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3860640"/>
            <a:ext cx="62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48428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640" y="6356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ht drin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7600" y="63752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5480" y="488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77400" y="23414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582120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580536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1573200"/>
            <a:ext cx="43200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62864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465200"/>
            <a:ext cx="5376960" cy="4195800"/>
          </a:xfrm>
          <a:prstGeom prst="rect">
            <a:avLst/>
          </a:prstGeom>
          <a:solidFill>
            <a:srgbClr val="0099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85960" y="290988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ävention (vermeidet Notfä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rolle, wenig Kr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ziplin, Ausgewog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28940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ty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öglichkeitsorienti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n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1160" y="1484280"/>
            <a:ext cx="585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rausforderun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ziehungen aufbauen und pf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, Vorbe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eren, Vorbeu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58920" y="1484280"/>
            <a:ext cx="6265800" cy="491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4720"/>
            <a:ext cx="9144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Zeit-Management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beit und Projekte organisier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1024600">
            <a:off x="719280" y="3068640"/>
            <a:ext cx="7777080" cy="1655640"/>
          </a:xfrm>
          <a:prstGeom prst="rect">
            <a:avLst/>
          </a:prstGeom>
          <a:solidFill>
            <a:srgbClr val="bbe0e3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148428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7600" y="63752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5480" y="488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7400" y="24861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582120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580536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1573200"/>
            <a:ext cx="432000" cy="41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1628640"/>
            <a:ext cx="432000" cy="41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1003600">
            <a:off x="730080" y="3284640"/>
            <a:ext cx="770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he eine Sache würde, regelmäßig betrieben, in Ihrem persönlichen und beruflichen Leben einen riesigen positiven Unterschied mach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797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92428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34936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1916280"/>
            <a:ext cx="503280" cy="433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49228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278136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227484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60720" y="2637000"/>
            <a:ext cx="503280" cy="433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249228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5080" y="213372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3080" y="170028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1628640"/>
            <a:ext cx="50292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155736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1989000"/>
            <a:ext cx="503280" cy="433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640" y="6356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ht drin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11360" y="1160640"/>
            <a:ext cx="6801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550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V-Sehdauer pro Tag: Verschiedene Altersgru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25160" y="5756400"/>
            <a:ext cx="589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6560" y="6334200"/>
            <a:ext cx="3157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elle: AGF/GfK Fernsehforschung, pc#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is: Fernsehpanel (D+EU), Mo-So, 3.00 - 3.00 U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825640"/>
          <a:ext cx="686268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825640"/>
                    <a:ext cx="686268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698920" y="253224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Halbjah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79720" y="3192480"/>
            <a:ext cx="1641600" cy="23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03320" y="5113440"/>
            <a:ext cx="378000" cy="3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1320" y="1160640"/>
            <a:ext cx="63882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550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hdauer pro Tag: Verschiedene Altersgru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64760" y="3011400"/>
            <a:ext cx="10648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 Minu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4840" y="5756400"/>
            <a:ext cx="589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75880" y="6334200"/>
            <a:ext cx="3157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elle: AGF/GfK Fernsehforschung, pc#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is: Fernsehpanel (D+EU), Mo-So, 3.00 - 3.00 U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8040" y="2840040"/>
          <a:ext cx="686268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2840040"/>
                    <a:ext cx="686268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108600" y="253224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Halbjah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05040" y="499428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48600" y="5060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549360"/>
            <a:ext cx="7416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33640" y="1160640"/>
            <a:ext cx="63882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550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hdauer pro Tag: Verschiedene Altersgru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87080" y="3011400"/>
            <a:ext cx="10648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 Minu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57160" y="5756400"/>
            <a:ext cx="589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98200" y="6334200"/>
            <a:ext cx="3157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elle: AGF/GfK Fernsehforschung, pc#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is: Fernsehpanel (D+EU), Mo-So, 3.00 - 3.00 U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00000" y="2840040"/>
          <a:ext cx="686304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40040"/>
                    <a:ext cx="686304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130920" y="253224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Halbjah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49520" y="4788000"/>
            <a:ext cx="5367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6200" y="4883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0880" y="498780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78480" y="508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11320" y="1197000"/>
            <a:ext cx="63882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550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hdauer pro Tag: Verschiedene Altersgru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4760" y="3048120"/>
            <a:ext cx="10648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 Minu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34840" y="5792760"/>
            <a:ext cx="589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5880" y="6370560"/>
            <a:ext cx="3157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elle: AGF/GfK Fernsehforschung, pc#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is: Fernsehpanel (D+EU), Mo-So, 3.00 - 3.00 U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78040" y="2876400"/>
          <a:ext cx="686268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2876400"/>
                    <a:ext cx="686268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108600" y="2568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Halbjah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12960" y="502452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70560" y="5119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478152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3880" y="4876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35680" y="447516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2000" y="4570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11320" y="1197000"/>
            <a:ext cx="63882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550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hdauer pro Tag: Verschiedene Altersgru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760" y="3048120"/>
            <a:ext cx="10648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n Minu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4840" y="5792760"/>
            <a:ext cx="589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786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5880" y="6370560"/>
            <a:ext cx="3157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elle: AGF/GfK Fernsehforschung, pc#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62"/>
              </a:lnSpc>
              <a:spcBef>
                <a:spcPts val="249"/>
              </a:spcBef>
              <a:tabLst>
                <a:tab algn="l" pos="0"/>
                <a:tab algn="l" pos="435600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is: Fernsehpanel (D+EU), Mo-So, 3.00 - 3.00 U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78040" y="2876400"/>
          <a:ext cx="686268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2876400"/>
                    <a:ext cx="686268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108600" y="2568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Halbjah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6120" y="6194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84720" y="475308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71040" y="48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3360" y="448164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0040" y="457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13560" y="4210200"/>
            <a:ext cx="5364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00240" y="430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5720" y="5067360"/>
            <a:ext cx="5367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9280" y="51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2133720"/>
            <a:ext cx="74167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rbeit und Projekte organis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dwig 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9640" y="1271520"/>
            <a:ext cx="80647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. Wie werden Ziele definiert und festleg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Realist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Mess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Selbst zu beeinfl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1268280"/>
            <a:ext cx="806472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2. Was sind die wesentlichen Merkma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erfolgreicher Projek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kritischen Dimensionen, das magisc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eieck des Erfolges, s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Quantität/Qu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Termin 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9640" y="1224000"/>
            <a:ext cx="83534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3. Wie geht man bei Projekten mit Risiken 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 Welche Risiken gibt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 Wie können mögliche Risiken verhinder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 Woran erkenn man die Risi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 Was macht man, wenn etwas schie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gangen 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1224000"/>
            <a:ext cx="835344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4. Welches sind die Grundregeln effektiver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lan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Rat holen von Fachle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Mitarbeiter in die Planung einbezi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Meilensteine fest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Im Detail bis zum nächs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eilenstein pl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Puffer und Verzögerungen einpl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9640" y="1224000"/>
            <a:ext cx="835344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5. Wo lauern die schlimmsten Zeitfress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Die vielen „angenehmen“ Kleinigk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Die latente Vorliebe z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erfekt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Die persönliche „Aufschieberiti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Der Hang, alles selber machen z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müss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Das nicht „Nein“ sagen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1224000"/>
            <a:ext cx="835344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6. Was ist bei der Durchführung vo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Besprechungen zu bea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Begrenzte Teilnehmerzahl (7 – 12 Perso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Ziele der Besprechung klar heraus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Geeignete Methoden für konstruk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skussionen anw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Ablauf genau pl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Ergebnisse visualis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Manöverkritik nicht verg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Nur Ergebnisse protokoll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549360"/>
            <a:ext cx="7416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9640" y="1224000"/>
            <a:ext cx="83534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7. Wie können Prioritäten gesetzt und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eingehalten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- Alle Aufgaben in einer to-do-Liste fest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- Nach A-, B-, C-Aufgaben prioris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- A-Aufgaben vorrangig und sofort selb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rle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- B- und C-Aufgaben, wenn möglich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eleg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- Erledigung der B-Aufgaben kontrol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- C-Aufgaben nur bei überschüssiger Z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1224000"/>
            <a:ext cx="835344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8. Wie kann eine wesentliche Verbesserung der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Arbeitsergebnisse erzielt 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Vom problemorientierten hin z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möglichkeitsorientierte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Präventiv agieren (nicht als Feuerlösc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Effektive Planung und Vorber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Vorbeugen statt nacharb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- Proaktiv handeln (Wichtige Dinge dann tu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solange sie nicht dringend sind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549360"/>
            <a:ext cx="74167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549360"/>
            <a:ext cx="7416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Wie geht man bei Projekten mit Risi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549360"/>
            <a:ext cx="7416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Wie geht man bei Projekten mit Risik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Welches sind die Grundregeln effekt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n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549360"/>
            <a:ext cx="74167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Wie geht man bei Projekten mit Risik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. Welches sind die Grundregeln effekti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lan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 Wo lauern die schlimmsten Zeitfress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549360"/>
            <a:ext cx="741672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Wie geht man bei Projekten mit Risik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. Welches sind die Grundregeln effekti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lan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. Wo lauern die schlimmsten Zeitfress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. Was ist bei der Durchführung v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sprechungen zu beach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549360"/>
            <a:ext cx="74167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eit und Projekte organisier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Wie werden Ziele definiert und festleg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Was sind die wesentlichen Merkmal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rfolgreicher Projek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Wie geht man bei Projekten mit Risik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. Welches sind die Grundregeln effekti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lan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. Wo lauern die schlimmsten Zeitfress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. Was ist bei der Durchführung v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sprechungen zu beacht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. Wie können Prioritäten gesetz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ingehalten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7-09-25T14:00:05Z</dcterms:modified>
  <cp:revision>35</cp:revision>
  <dc:subject/>
  <dc:title>Folie 1</dc:title>
</cp:coreProperties>
</file>