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14416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4292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09920" y="3379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33880" y="5468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4. Problem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9920" y="3379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33880" y="5468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. Problem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5760" y="4292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. Vereinbarung tre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09920" y="33796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33880" y="5468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. Problem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5760" y="4292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Vereinbarung tre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3040" y="33796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. Persönlich v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33880" y="5468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. Problem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5760" y="4292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Vereinbarung tre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4960" y="33796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6. Persönlich v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14416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12436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Welche Konfliktarten können auftret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ibungskonfl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ielkonfl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rteilungskonfl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ollenkonfl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ommunikationskonfl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141280"/>
            <a:ext cx="777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Warum enden zwischenmenschliche Konflikte of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egati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r wollen Siegen um jeden Pre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r hängen das Fähnchen nach dem Wi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r sitzen den Konflikt a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2186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3. Wie sieht eine positive Konfliktlösung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r streben eine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ompromis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129760"/>
            <a:ext cx="777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4. Was sind die Voraussetzungen, um Konflikte 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inem guten Kompromiss zu führ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bewusst auftr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ähig zur Kommunikation mit den Konfliktpartn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beherrschung auch in schwieri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tu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f den Konflikt zugehen, nicht wegdu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n Konflikt zukunftsorientiert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inen eigenen Standpunkt vertr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212940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5. Wie kann in schwierigen Problemsituationen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deeskalierend eingegriffen 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ie Sichtweise des Konfliktpartners einne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chuld übernehmen, ohne die Verantwortung fü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lles zu übernehmen &gt;&gt; Bedingte Zu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Cool und ruhig bl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ie Worte sensibel wählen und nicht verl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129760"/>
            <a:ext cx="777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6. Wie sieht ein vernünftiger Konfliktlösung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prozess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ne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ompromiss anstr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öglichst nichts persönlich nehmen, sp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nempfindlich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nsibilität in der Wortwahl be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gene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tandpunkt sachlich und diplomatis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vertr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Eine klare Konfliktlösungs-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trategie er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839600"/>
            <a:ext cx="777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erson – Beziehung - S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Offenkommun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Problem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. Vereinbarung tr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. Persönlich verarb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14416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rum enden zwischenmenschliche Konflikte oft negati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rum enden zwischenmenschliche Konflikte oft negati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sieht eine positive Konfliktlös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arum enden zwischenmenschliche Konflikte oft negati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sieht eine positive Konfliktlös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as sind die Voraussetzungen, um Konflikte zu 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uten Kompromiss zu führ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Warum enden zwischenmenschliche Konflikte oft negati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Wie sieht eine positive Konfliktlös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Was sind die Voraussetzungen, um Konflikte zu 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uten Kompromiss zu führ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. Wie kann in schwierigen Problemsituationen deeskaliere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ingegriffen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20923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1. Welche Konfliktarten können auftre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Warum enden zwischenmenschliche Konflikte oft negativ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Wie sieht eine positive Konfliktlös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Was sind die Voraussetzungen, um Konflikte zu ein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uten Kompromiss zu führ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. Wie kann in schwierigen Problemsituationen deeskaliere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ingegriffen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6. Wie sieht ein vernünftiger Konfliktlösungsprozess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4416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e Schuldübernah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6-11-26T17:54:11Z</dcterms:modified>
  <cp:revision>26</cp:revision>
  <dc:subject/>
  <dc:title>Folie 1</dc:title>
</cp:coreProperties>
</file>