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onflikte meister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Konfliktkreisla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18728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zie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797440" y="4724280"/>
            <a:ext cx="2087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2637000"/>
            <a:ext cx="20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411280" y="2924280"/>
            <a:ext cx="936720" cy="129672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3760" y="21765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. Erregung kontroll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6840" y="4316400"/>
            <a:ext cx="20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. Vertrauen bil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9200" y="5468760"/>
            <a:ext cx="247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3. Offen kommuniz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33880" y="54687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. Problem lö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5760" y="4292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5. Vereinbarung tre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4960" y="3379680"/>
            <a:ext cx="25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6. Persönlich v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5013360"/>
            <a:ext cx="1655640" cy="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940000" y="2997000"/>
            <a:ext cx="1081080" cy="1152360"/>
          </a:xfrm>
          <a:prstGeom prst="line">
            <a:avLst/>
          </a:prstGeom>
          <a:ln w="507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6-11-26T17:55:24Z</dcterms:modified>
  <cp:revision>28</cp:revision>
  <dc:subject/>
  <dc:title>Folie 1</dc:title>
</cp:coreProperties>
</file>