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365480" y="2730600"/>
            <a:ext cx="67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Kundenorientier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706400" y="1812960"/>
          <a:ext cx="5754960" cy="276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1812960"/>
                    <a:ext cx="575496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773520" y="6308640"/>
            <a:ext cx="1735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. Christoph Ew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91200" y="28584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943920"/>
            <a:ext cx="8604360" cy="51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883440"/>
            <a:ext cx="860436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Was wünschen sich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uns am Kunden orienti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883440"/>
            <a:ext cx="860436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Was wünschen sich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uns am Kunden orienti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Was verärgert die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883440"/>
            <a:ext cx="860436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Was wünschen sich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uns am Kunden orienti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Was verärgert die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Was ist in der Kundenbetreuung zu beach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822240"/>
            <a:ext cx="860436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Was wünschen sich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uns am Kunden orienti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Was verärgert die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Was ist in der Kundenbetreuung zu beach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Welches sind die Qualitäts- und Zufriedenheit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dem Kunden Orientierung geben möcht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761400"/>
            <a:ext cx="860436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Lernzi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Was wünschen sich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uns am Kunden orienti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Was verärgert die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Was ist in der Kundenbetreuung zu beach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Welches sind die Qualitäts- und Zufriedenheit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wenn wir dem Kunden Orientierung geben möcht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. Wie können Kundenbetreuung und Kundenservice 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hrem Unternehmen verbess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91200" y="28584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91200" y="28584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000" y="1955520"/>
            <a:ext cx="872892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Interaktion Produkt-Mitglied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Feedback-Möglichkeit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Wella-Friseur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e-mail, Hotline...)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www.friseurportal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Regelmäßiger Konta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Newsletter, Treffen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Mitgliedersegment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Sub-Community, exklusive Events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7360" y="1895400"/>
            <a:ext cx="878364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Gegenseitige Unterstützu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Themenbezogene Fo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Sony Play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Zielgerichteter Infoaustausch)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www.playstatio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Aufstieg in der Community-Hierarc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Vergabe von Punkten, Sternen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560" y="1895400"/>
            <a:ext cx="842400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auerhaftes Interesse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Produkt differenzie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Pusch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Offline-Events, Neue Branch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www.puschki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integrier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Interesse gezielt steig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Neue Verwendungszweck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880" y="1912320"/>
            <a:ext cx="87487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Identifikationspotential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Ich-Bezug des Produkts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Harley David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herstell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(www.harley-davidson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Förderung intensiver Nutzung...)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Etablierung einer Produktpersönlich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Lebensphilosophie, Marke, Lifestyle...)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720" y="1927440"/>
            <a:ext cx="8884440" cy="39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Bedürfniserfüllu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Funktionale Bedürfnisse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BM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Umfassende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www.7er.c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Informationsbereitstellung;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spezielle Sonderangebo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und Services...)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Individuelle Bedürfnisse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Red B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Offline-Events wie Stammtisch,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www.redbullflugtag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Reisen, Fun-Events..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Spiele und Wettbewerb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240" y="1912320"/>
            <a:ext cx="803556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Zusammen-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Förderung von Offline-Events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gehörigkeitsgefühl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(Wir-Gefühl, Identifikation...)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www.linux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Integration neuer Mitglie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Orientierungshilfen, Coaches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Community Kontro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Vermeidung negativer Einflüss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960" y="1895400"/>
            <a:ext cx="8596080" cy="29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reundschaft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Detaillierte Mitgliederprofile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C. Bayern Mün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Förderung Kontaktaufnahme,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www.fcbayern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Netzwerke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Kontaktförderung durch Offline-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(„Harley riding-events“, „Consors Star-trader“…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480" y="1923120"/>
            <a:ext cx="853848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                                             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Aufbau von erfolgreichen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rfolgsfaktor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Mögliche Maßnahmen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raxis-Beisp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influssnahme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- Community-Vorschlagswes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bay (www.ebay.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(Verbesserungen, Gestaltungsfreiraum…)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- Aktives Memb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54160"/>
                <a:tab algn="l" pos="5392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(Incentive-System; Beta-Tester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91200" y="28584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913040"/>
            <a:ext cx="81356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 Was wünschen sich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nzentration auf das Wesent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rtrau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quem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3840" y="993600"/>
            <a:ext cx="84261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n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staunliche Erkenntnisse zur Kunden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96% aller Kunden beschweren sich nicht, wenn Sie mit dem Anbieter unzufrieden s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lg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i Unzufriedenheit wechseln Kunde „leise“ den Anbi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913040"/>
            <a:ext cx="81356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2.  Was verärgert die Ku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auderwelsch rund um das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chlecht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Nicht eingehaltene Verspre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Desinteresse und Arroga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Ignora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912680"/>
            <a:ext cx="81356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.  Was ist in der Kundenbetreuung zu beach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 sucht eine vertrauensvolle Beziehung zum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sprech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 ist meist unvollständig inform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 ist ungeschickt in der Formulierung sei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azi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Kundenorientierung ist Einstellungss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893960"/>
            <a:ext cx="813564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4. Welches sind die Qualitäts- und Zufriedenheit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Faktor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Nice-to-have-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asi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Leistung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egeisterung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Over-kill-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1046880"/>
            <a:ext cx="8604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„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Kundenorientier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88560"/>
            <a:ext cx="813564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5. Wie können Kundenbetreuung und  Kundenser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in Ihrem Unternehmen verbessert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ervicegarant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ommun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Fazi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: Kundenzufriedenheit ist Verhaltenssteu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991200" y="28584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993600"/>
            <a:ext cx="84265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n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staunliche Erkenntnisse zur Kunden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den, die sich trotz Unzufriedenheit beschweren, bleiben dem Unternehmen tr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lg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i schneller Beschwerdeabwicklung kehren 95% der Kunden zum Unternehmen zurü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998640"/>
            <a:ext cx="8426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unden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rstaunliche Erkenntnisse zur Kunden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Unzufriedene Kunden erzählen Ihre Probleme 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a. neun Personen w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Folge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chnelle Beschwerdeabwicklung verhindert „schlechte Press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977400"/>
            <a:ext cx="84265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n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staunliche Erkenntnisse zur Kunden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unden, die sich beschwert haben und deren Problem schnell und unbürokratisch gelöst wurde, erzählen durchschnittlich fünf Personen von der guten Erfahrung, die sie mit dem Unternehmen gemacht 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olg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zufriedene Kunden sollen sich auf jeden Fall beschw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8200" y="981000"/>
            <a:ext cx="8426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undenorientie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rstaunliche Erkenntnisse zur Kunden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 u="sng">
                <a:solidFill>
                  <a:srgbClr val="ff0000"/>
                </a:solidFill>
                <a:uFillTx/>
                <a:latin typeface="Arial"/>
              </a:rPr>
              <a:t>Fazi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Wir wollen, dass sich unzufriedene Kunden beschwe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Nur so haben wir die Chance, den Kunden zurückzugewinn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91200" y="28584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06400" y="1812960"/>
          <a:ext cx="5754960" cy="276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1812960"/>
                    <a:ext cx="575496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773520" y="6308640"/>
            <a:ext cx="1735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. Christoph Ewe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Christoph</cp:lastModifiedBy>
  <dcterms:modified xsi:type="dcterms:W3CDTF">2005-09-14T19:48:14Z</dcterms:modified>
  <cp:revision>30</cp:revision>
  <dc:subject/>
  <dc:title>Folie 1</dc:title>
</cp:coreProperties>
</file>