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2520"/>
            <a:ext cx="8064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57680"/>
            <a:ext cx="80647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 ist bei der Redevorbereitung zu bea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56960"/>
            <a:ext cx="806472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s ist bei der Redevorbereitung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e kann der Auftritt gleich zu Beginn in die gewünschte Richtung gelenkt 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956960"/>
            <a:ext cx="806472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s ist bei der Redevorbereitung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ie kann der Auftritt gleich zu Beginn in die gewünschte Richtung gelenk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lches sind die Regeln, den Spannungsbogen zu steigern, um die Zuhörer zu fessel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983240"/>
            <a:ext cx="8064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s ist bei der Redevorbereitung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ie kann der Auftritt gleich zu Beginn in die gewünschte Richtung gelenk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elches sind die Regeln, den Spannungsbogen zu steigern, um die Zuhörer zu fessel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Welche körpersprachlichen Mittel machen den Redeauftritt überzeuge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955880"/>
            <a:ext cx="806472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s ist bei der Redevorbereitung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ie kann der Auftritt gleich zu Beginn in die gewünschte Richtung gelenk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elches sind die Regeln, den Spannungsbogen zu steigern, um die Zuhörer zu fessel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elche körpersprachlichen Mittel machen den Redeauftritt überzeugend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Was ist beim Medieneinsatz zu bea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019600"/>
            <a:ext cx="8064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rum ist jede Rede/Vortrag/Gespräch für das berufliche Fortkommen von entscheidender Bedeut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s ist bei der Redevorbereitung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ie kann der Auftritt gleich zu Beginn in die gewünschte Richtung gelenk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elches sind die Regeln, den Spannungsbogen zu steigern, um die Zuhörer zu fessel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elche körpersprachlichen Mittel machen den Redeauftritt überzeugend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6.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Was ist beim Medieneinsatz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Was kann man aus Redeauftritten für die Zukunf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92880"/>
            <a:ext cx="9144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den vor Publik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n kann man es nicht rech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n kann man es nicht rech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de ist Chance, nicht 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n kann man es nicht rech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de ist Chance, nicht 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enießen Sie Ihre Erfol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n kann man es nicht rech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de ist Chance, nicht 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enießen Sie Ihre Erfol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ntspannen, richtig a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mpenfi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9160" y="1911600"/>
            <a:ext cx="881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Wie kann Lampenfieber und Streß kontrolli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ündliche Vor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takt zum Zuhöre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ität am Rednerpult/Podest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 Ziele nicht zu hoch s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uhörer sind Freunde, nicht Fe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n kann man es nicht rech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de ist Chance, nicht 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enießen Sie Ihre Erfol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ntspannen, richtig a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ausen ein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133720"/>
            <a:ext cx="8207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131920"/>
            <a:ext cx="82072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131560"/>
            <a:ext cx="82072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118600"/>
            <a:ext cx="82072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131200"/>
            <a:ext cx="82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14668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motionen 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130480"/>
            <a:ext cx="8207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otionen 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ktualität einbi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130120"/>
            <a:ext cx="8207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otionen 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ualität einb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ternativen anb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6360" y="2133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287360"/>
            <a:ext cx="49690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140920"/>
            <a:ext cx="8207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otionen 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ualität einb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ernativen anbi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ighlights konstru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annungsb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2140920"/>
            <a:ext cx="8207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erwarteter Verlauf der 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aktion mit dem 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i 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ontane Medien ein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hler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otionen 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ualität einb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ernativen anbi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ghlights konstru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ngagement und Begeisterung zeigen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07648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Warum ist jede Rede/Vortrag/Gesprä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für das berufliche Fortkommen von entscheidender Bedeut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Meist sind Entscheider/Multiplikatoren die Zuhö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Nur derjenige, der seine „Ideen verkaufen“ kann, hat Erfol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0653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Was ist bei der Redevorbereitung 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a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ielgruppenanalyse durchfü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ene Zielsetzung bewusst ma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0811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Wie kann der Auftritt gleich zu Beginn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gewünschte Richtung gelenk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ziehungsebene der Zuhörers aktivi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austformel: in der 1. Minute über di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uchebene einen guten Einsti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n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192400"/>
            <a:ext cx="770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Welches sind die Regeln, den Spannungsbo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u steigern, um die Zuhörer zu fessel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e-Atmosphä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hler zu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i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äte Auf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nig Vorproduzie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ternativen anbi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hauspieler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07000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5. Welche körpersprachlichen Mittel ma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den Redeauftritt überzeuge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prache/Beto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Mi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Ges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20653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6. Was ist beim Medieneinsatz zu bea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n statisches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n spontanes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ld sollte der Referen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en vor Publiku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095560"/>
            <a:ext cx="770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7. Was kann man aus Redeauftritten für d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ukunf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e war 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meinen and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mache ich beim nächsten 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ch m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ch k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ch will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6360" y="2133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63640" y="1252440"/>
          <a:ext cx="48848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52440"/>
                    <a:ext cx="48848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6360" y="2133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1306440"/>
            <a:ext cx="4708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Ewert</cp:lastModifiedBy>
  <dcterms:modified xsi:type="dcterms:W3CDTF">2005-08-19T14:48:33Z</dcterms:modified>
  <cp:revision>72</cp:revision>
  <dc:subject/>
  <dc:title>Folie 1</dc:title>
</cp:coreProperties>
</file>