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093080" y="260280"/>
            <a:ext cx="1619280" cy="111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207036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99200" y="469800"/>
            <a:ext cx="514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1600200"/>
            <a:ext cx="1066680" cy="304812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4800600"/>
            <a:ext cx="106668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1600200"/>
            <a:ext cx="1067040" cy="1905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3657600"/>
            <a:ext cx="1067040" cy="19051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8640" y="2449440"/>
            <a:ext cx="114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V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itarbei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komm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69280" y="4299120"/>
            <a:ext cx="134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V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Vorgesetzt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komm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53200" y="5715000"/>
            <a:ext cx="135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O L L E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istung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reit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05640" y="5715000"/>
            <a:ext cx="134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 Ö N N E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istung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äh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20040" y="571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99200" y="469800"/>
            <a:ext cx="514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1600200"/>
            <a:ext cx="1066680" cy="304812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4800600"/>
            <a:ext cx="106668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1600200"/>
            <a:ext cx="1067040" cy="1905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3657600"/>
            <a:ext cx="1067040" cy="190512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2514600"/>
            <a:ext cx="1066680" cy="3048120"/>
          </a:xfrm>
          <a:prstGeom prst="bevel">
            <a:avLst>
              <a:gd name="adj" fmla="val 125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1600200"/>
            <a:ext cx="1066680" cy="76212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640" y="2449440"/>
            <a:ext cx="114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V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itarbei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komm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69280" y="4299120"/>
            <a:ext cx="134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V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Vorgesetzt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komm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53200" y="5715000"/>
            <a:ext cx="135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O L L E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istung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reit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05640" y="5715000"/>
            <a:ext cx="134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 Ö N N E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istung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ähig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59160" y="5715000"/>
            <a:ext cx="130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Ü R F E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istung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öglichke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W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844640"/>
            <a:ext cx="8642160" cy="85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Die Voraussetzungen für ein hohes Maß an Leistungswillen sin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...immer individuell unterschiedl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W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844640"/>
            <a:ext cx="8642160" cy="87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Die Voraussetzungen für ein hohes Maß an Leistungswillen sin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(...immer individuell unterschiedl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Die Arbeit muß </a:t>
            </a:r>
            <a:r>
              <a:rPr b="1" lang="de-DE" sz="2400" spc="-1" strike="noStrike" u="sng">
                <a:solidFill>
                  <a:srgbClr val="ff0000"/>
                </a:solidFill>
                <a:uFillTx/>
                <a:latin typeface="Arial"/>
              </a:rPr>
              <a:t>Sinn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mac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(Greenpeace, Rotes Kreuz, Kirche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W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844640"/>
            <a:ext cx="8642160" cy="79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Die Voraussetzungen für ein hohes Maß an Leistungswillen sin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(...immer individuell unterschiedl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Arbeit muß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Sin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machen (Greenpeace, Rotes Kreuz, Kirche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Den Mitarbeiter als </a:t>
            </a:r>
            <a:r>
              <a:rPr b="1" lang="de-DE" sz="2400" spc="-1" strike="noStrike" u="sng">
                <a:solidFill>
                  <a:srgbClr val="ff0000"/>
                </a:solidFill>
                <a:uFillTx/>
                <a:latin typeface="Arial"/>
              </a:rPr>
              <a:t>Partner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ernst neh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und als vereinbarungsfähig erklä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W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844640"/>
            <a:ext cx="864216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Die Voraussetzungen für ein hohes Maß an Leistungswillen sin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(...immer individuell unterschiedl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Arbeit muß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Sin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machen (Greenpeace, Rotes Kreuz, Kirche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en Mitarbeiter als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Partner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ernst nehmen und als vereinbarungsfähig erklä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Die geforderte Leistung </a:t>
            </a:r>
            <a:r>
              <a:rPr b="1" lang="de-DE" sz="2400" spc="-1" strike="noStrike" u="sng">
                <a:solidFill>
                  <a:srgbClr val="ff0000"/>
                </a:solidFill>
                <a:uFillTx/>
                <a:latin typeface="Arial"/>
              </a:rPr>
              <a:t>vereinbaren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(Klares und ausgesprochenes Forderungsverhältn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Chef – Mitarbeiter schaffen; Karriereplan aufstel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W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844640"/>
            <a:ext cx="8642160" cy="68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Die Voraussetzungen für ein hohes Maß an Leistungswillen sin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(...immer individuell unterschiedl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Arbeit muß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Sin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machen (Greenpeace, Rotes Kreuz, Kirche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en Mitarbeiter als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Partner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ernst nehmen und als vereinbarungsfähig erklä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geforderte Leistung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vereinbare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(Klares und ausgesprochen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Forderungsverhältnis Chef – Mitarbeiter schaffen; Karriereplan aufstel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Die geforderte Leistung </a:t>
            </a:r>
            <a:r>
              <a:rPr b="1" lang="de-DE" sz="2400" spc="-1" strike="noStrike" u="sng">
                <a:solidFill>
                  <a:srgbClr val="ff0000"/>
                </a:solidFill>
                <a:uFillTx/>
                <a:latin typeface="Arial"/>
              </a:rPr>
              <a:t>einfordern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(Nicht verwöhnen, sondern herausforder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W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844640"/>
            <a:ext cx="8642160" cy="61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Die Voraussetzungen für ein hohes Maß an Leistungswillen sin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(...immer individuell unterschiedl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Arbeit muß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Sin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machen (Greenpeace, Rotes Kreuz, Kirche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en Mitarbeiter als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Partner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ernst nehmen und als vereinbarungsfähig erklä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geforderte Leistung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vereinbare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(Klares und ausgesprochen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Forderungsverhältnis Chef – Mitarbeiter schaffen; Karriereplan aufstel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geforderte Leistung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einforder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(Nicht verwöhnen, sondern herausforder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Die geforderte Leistung </a:t>
            </a:r>
            <a:r>
              <a:rPr b="1" lang="de-DE" sz="2400" spc="-1" strike="noStrike" u="sng">
                <a:solidFill>
                  <a:srgbClr val="ff0000"/>
                </a:solidFill>
                <a:uFillTx/>
                <a:latin typeface="Arial"/>
              </a:rPr>
              <a:t>kontrollieren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(Objektive Messkriterien, nicht subjektive Eigenhei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W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844640"/>
            <a:ext cx="864216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Die Voraussetzungen für ein hohes Maß an Leistungswillen sin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(...immer individuell unterschiedl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Arbeit muß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Sin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machen (Greenpeace, Rotes Kreuz, Kirche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en Mitarbeiter als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Partner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ernst nehmen und als vereinbarungsfähig erklä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geforderte Leistung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vereinbare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(Klares und ausgesprochen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Forderungsverhältnis Chef – Mitarbeiter schaffen; Karriereplan aufstel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geforderte Leistung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einforder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(Nicht verwöhnen, sondern herausforder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geforderte Leistung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kontrolliere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(Objektive Messkriterien, nicht subjek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Eigenhei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 u="sng">
                <a:solidFill>
                  <a:srgbClr val="ff0000"/>
                </a:solidFill>
                <a:uFillTx/>
                <a:latin typeface="Arial"/>
              </a:rPr>
              <a:t>Behinderung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der Leistungsfreude erfra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(beziehungsbedingt vs. arbeitsstrukturbeding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207036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ie funktioniert Motiv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W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1844640"/>
            <a:ext cx="864216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Die Voraussetzungen für ein hohes Maß an Leistungswillen sin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(...immer individuell unterschiedl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Arbeit muß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Sin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machen (Greenpeace, Rotes Kreuz, Kirche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en Mitarbeiter als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Partner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ernst nehmen und als vereinbarungsfähig erklä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geforderte Leistung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vereinbare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(Klares und ausgesprochen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Forderungsverhältnis Chef – Mitarbeiter schaffen; Karriereplan aufstel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geforderte Leistung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einforder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(Nicht verwöhnen, sondern herausforder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geforderte Leistung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kontrolliere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(Objektive Messkriterien, nicht subjek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Eigenhei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Behinderung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der Leistungsfreude erfragen (beziehungsbedingt v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arbeitsstrukturbedingt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 u="sng">
                <a:solidFill>
                  <a:srgbClr val="ff0000"/>
                </a:solidFill>
                <a:uFillTx/>
                <a:latin typeface="Arial"/>
              </a:rPr>
              <a:t>Dialogisch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führen = Wenn Sie aus dem Gespräch an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herauskommen, als Sie hineingegang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W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844640"/>
            <a:ext cx="8642160" cy="50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Die Voraussetzungen für ein hohes Maß an Leistungswillen sin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(...immer individuell unterschiedl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Arbeit muß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Sin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machen (Greenpeace, Rotes Kreuz, Kirche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en Mitarbeiter als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Partner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ernst nehmen und als vereinbarungsfähig erklä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geforderte Leistung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vereinbare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(Klares und ausgesprochen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Forderungsverhältnis Chef – Mitarbeiter schaffen; Karriereplan aufstel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geforderte Leistung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einforder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(Nicht verwöhnen, sondern herausforder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geforderte Leistung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kontrolliere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(Objektive Messkriterien, nicht subjek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Eigenhei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Behinderung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der Leistungsfreude erfragen (beziehungsbedingt v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arbeitsstrukturbedingt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Dialogisch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führen = Wenn Sie aus dem Gespräch anders herauskommen, als S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hineingegangen s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400" spc="-1" strike="noStrike" u="sng">
                <a:solidFill>
                  <a:srgbClr val="ff0000"/>
                </a:solidFill>
                <a:uFillTx/>
                <a:latin typeface="Arial"/>
              </a:rPr>
              <a:t>Freiräume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schaff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(Wahlmöglichkeit, Selbstbestimmung und Entscheidungsfreira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erhal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W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844640"/>
            <a:ext cx="864216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Die Voraussetzungen für ein hohes Maß an Leistungswillen sin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(...immer individuell unterschiedl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Arbeit muß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Sin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machen (Greenpeace, Rotes Kreuz, Kirche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en Mitarbeiter als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Partner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ernst nehmen und als vereinbarungsfähig erklä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geforderte Leistung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vereinbare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(Klares und ausgesprochen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Forderungsverhältnis Chef – Mitarbeiter schaffen; Karriereplan aufstell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geforderte Leistung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einforder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(Nicht verwöhnen, sondern herausforder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Die geforderte Leistung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kontrollieren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(Objektive Messkriterien, nicht subjek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Eigenhei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Behinderung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der Leistungsfreude erfragen (beziehungsbedingt v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arbeitsstrukturbedingt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Dialogisch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führen = Wenn Sie aus dem Gespräch anders herauskommen, als S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hineingegangen s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600" spc="-1" strike="noStrike" u="sng">
                <a:solidFill>
                  <a:srgbClr val="333399"/>
                </a:solidFill>
                <a:uFillTx/>
                <a:latin typeface="Arial"/>
              </a:rPr>
              <a:t>Freiräume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schaffen (Wahlmöglichkeit, Selbstbestimmung und Entscheidungsfreira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erhal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400" spc="-1" strike="noStrike" u="sng">
                <a:solidFill>
                  <a:srgbClr val="ff0000"/>
                </a:solidFill>
                <a:uFillTx/>
                <a:latin typeface="Arial"/>
              </a:rPr>
              <a:t>Deregulierung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 der Arb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-396720" y="985680"/>
            <a:ext cx="91440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216432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25480" y="2306520"/>
            <a:ext cx="508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Die 16 Lebensmo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(nach Prof. Steven Rei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396720" y="985680"/>
            <a:ext cx="91440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ie 16 Lebensmotive (nach Prof. Steven Rei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966320"/>
            <a:ext cx="8424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Macht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Streben nach Erfolg, Leistung, Führung und Einflu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396720" y="985680"/>
            <a:ext cx="91440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ie 16 Lebensmotive (nach Prof. Steven Rei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988280"/>
            <a:ext cx="84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Mach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Unabhängigke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Streben nach Freiheit, Selbstgenügsamkeit und Autark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-396720" y="985680"/>
            <a:ext cx="91440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ie 16 Lebensmotive (nach Prof. Steven Rei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1988640"/>
            <a:ext cx="84247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Mach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Unabhängigke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Neugie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Streben nach Wissen und Wahrhe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396720" y="985680"/>
            <a:ext cx="91440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ie 16 Lebensmotive (nach Prof. Steven Rei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003040"/>
            <a:ext cx="842472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Mach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Unabhängigke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Neug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nerkennung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Streben nach sozialer Akzeptanz, Zugehörigkei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sitivem Selbstw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-396720" y="985680"/>
            <a:ext cx="91440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ie 16 Lebensmotive (nach Prof. Steven Rei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2008080"/>
            <a:ext cx="8424720" cy="19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Mach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Unabhängigke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Neug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Anerken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Ordnu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Streben nach Stabilität, Klarheit und guter Organis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07036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ie funktioniert Motiv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ie bekommt man die ganze Leistung de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itarbei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-396720" y="985680"/>
            <a:ext cx="91440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ie 16 Lebensmotive (nach Prof. Steven Rei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1989000"/>
            <a:ext cx="84247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Mach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Unabhängigke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Neug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Anerken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Ord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paren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Streben nach Anhäufung materieller Güter und Eigent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396720" y="985680"/>
            <a:ext cx="91440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ie 16 Lebensmotive (nach Prof. Steven Rei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989000"/>
            <a:ext cx="84247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Mach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Unabhängigke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Neug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Anerken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Ord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Spar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Ehre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Streben nach Loyalität und moralisch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harakterlicher Integritä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396720" y="985680"/>
            <a:ext cx="91440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ie 16 Lebensmotive (nach Prof. Steven Rei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989360"/>
            <a:ext cx="8424720" cy="23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Mach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Unabhängigke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Neug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Anerken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Ord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Spar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Eh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Idealismus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Streben nach sozialer Gerechtigkeit und Fairn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-396720" y="985680"/>
            <a:ext cx="91440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ie 16 Lebensmotive (nach Prof. Steven Rei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1989360"/>
            <a:ext cx="842472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Mach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Unabhängigke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Neug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Anerken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Ord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Spar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Eh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Idealism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Beziehungen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Streben nach Freundschaft, Freude und Hum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396720" y="985680"/>
            <a:ext cx="91440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ie 16 Lebensmotive (nach Prof. Steven Rei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989360"/>
            <a:ext cx="842472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Mach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Unabhängigke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Neug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Anerken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Ord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Spar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Eh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Idealism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Bezieh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Familie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Streben nach einem Familienleben und besonders danach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igene Kinder zu erzie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-396720" y="985680"/>
            <a:ext cx="91440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ie 16 Lebensmotive (nach Prof. Steven Rei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988280"/>
            <a:ext cx="84247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de-DE" sz="1500" spc="-1" strike="noStrike">
                <a:solidFill>
                  <a:srgbClr val="333399"/>
                </a:solidFill>
                <a:latin typeface="Arial"/>
              </a:rPr>
              <a:t>Mach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de-DE" sz="1500" spc="-1" strike="noStrike">
                <a:solidFill>
                  <a:srgbClr val="333399"/>
                </a:solidFill>
                <a:latin typeface="Arial"/>
              </a:rPr>
              <a:t>Unabhängigke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de-DE" sz="1500" spc="-1" strike="noStrike">
                <a:solidFill>
                  <a:srgbClr val="333399"/>
                </a:solidFill>
                <a:latin typeface="Arial"/>
              </a:rPr>
              <a:t>Neug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de-DE" sz="1500" spc="-1" strike="noStrike">
                <a:solidFill>
                  <a:srgbClr val="333399"/>
                </a:solidFill>
                <a:latin typeface="Arial"/>
              </a:rPr>
              <a:t>Anerken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de-DE" sz="1500" spc="-1" strike="noStrike">
                <a:solidFill>
                  <a:srgbClr val="333399"/>
                </a:solidFill>
                <a:latin typeface="Arial"/>
              </a:rPr>
              <a:t>Ord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de-DE" sz="1500" spc="-1" strike="noStrike">
                <a:solidFill>
                  <a:srgbClr val="333399"/>
                </a:solidFill>
                <a:latin typeface="Arial"/>
              </a:rPr>
              <a:t>Spar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de-DE" sz="1500" spc="-1" strike="noStrike">
                <a:solidFill>
                  <a:srgbClr val="333399"/>
                </a:solidFill>
                <a:latin typeface="Arial"/>
              </a:rPr>
              <a:t>Eh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de-DE" sz="1500" spc="-1" strike="noStrike">
                <a:solidFill>
                  <a:srgbClr val="333399"/>
                </a:solidFill>
                <a:latin typeface="Arial"/>
              </a:rPr>
              <a:t>Idealism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de-DE" sz="1500" spc="-1" strike="noStrike">
                <a:solidFill>
                  <a:srgbClr val="333399"/>
                </a:solidFill>
                <a:latin typeface="Arial"/>
              </a:rPr>
              <a:t>Bezieh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de-DE" sz="1500" spc="-1" strike="noStrike">
                <a:solidFill>
                  <a:srgbClr val="333399"/>
                </a:solidFill>
                <a:latin typeface="Arial"/>
              </a:rPr>
              <a:t>Famil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500" spc="-1" strike="noStrike">
                <a:solidFill>
                  <a:srgbClr val="ff0000"/>
                </a:solidFill>
                <a:latin typeface="Arial"/>
              </a:rPr>
              <a:t>Status</a:t>
            </a:r>
            <a:r>
              <a:rPr b="1" lang="de-DE" sz="15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(Streben nach "social standing", nach Reichtum, Titeln un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öffentlicher Aufmerksamke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-396720" y="985680"/>
            <a:ext cx="91440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ie 16 Lebensmotive (nach Prof. Steven Rei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1989720"/>
            <a:ext cx="842472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Mach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Unabhängigke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Neug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Anerken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Ord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Spar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Eh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Idealism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Bezieh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Famil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St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Rache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Streben nach Konkurrenz, Kampf, Aggressivitä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nd Vergel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-396720" y="985680"/>
            <a:ext cx="91440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ie 16 Lebensmotive (nach Prof. Steven Rei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1990080"/>
            <a:ext cx="8424720" cy="41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Mach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Unabhängigke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Neug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Anerken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Ord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Spar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Eh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Idealism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Bezieh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Famil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St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Rach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Romanti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Streben nach einem erotischen Leben, Sexualitä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nd Schönhe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-396720" y="985680"/>
            <a:ext cx="91440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ie 16 Lebensmotive (nach Prof. Steven Rei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1990440"/>
            <a:ext cx="842472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Mach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Unabhängigke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Neug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Anerken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Ord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Spar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Eh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Idealism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Bezieh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Famil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St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Rach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Romant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Ernähru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Streben nach Essen und Nahr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-396720" y="985680"/>
            <a:ext cx="91440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ie 16 Lebensmotive (nach Prof. Steven Rei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1990440"/>
            <a:ext cx="842472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Mach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Unabhängigke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Neug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Anerken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Ord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Spar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Eh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Idealism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Bezieh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Famil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St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Rach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Romant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Ernäh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Körperliche Aktivitä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Streben nach Fitness und Beweg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07036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ie funktioniert Motiv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ie bekommt man die ganze Leistung de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itarbei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  Was demotiviert Mitarbei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-396720" y="985680"/>
            <a:ext cx="91440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ie 16 Lebensmotive (nach Prof. Steven Rei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990800"/>
            <a:ext cx="842472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Mach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Unabhängigke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Neugi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Anerken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Ordn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Spar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Eh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Idealism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Beziehung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Famili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St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Rach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Romant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Ernäh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Körperliche Aktivitä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Ru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Streben nach Entspannung und emotionaler Sicherhe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-396720" y="985680"/>
            <a:ext cx="91440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Die 16 Lebensmotive (nach Prof. Steven Rei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227808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abhängig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ug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erkenn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rdn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p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h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deal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95000" y="2276640"/>
            <a:ext cx="513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.    Bezieh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.  Fami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. 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.  R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3.  Romant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4.  Ernä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5.  Körperliche Aktivit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6.  Ru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-396720" y="742680"/>
            <a:ext cx="9144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6 Lebensmo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as persönliche Motivationspro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1724400"/>
            <a:ext cx="8136000" cy="66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00000" y="2349360"/>
            <a:ext cx="7559640" cy="395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0328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800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1128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1636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1964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436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2764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3236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3564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036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4836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5164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5672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429264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27082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0000" y="59500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22050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3040" y="5802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3800" y="40021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520" y="6424560"/>
            <a:ext cx="810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MA    UN    NE    AN    OR    SP    EH    ID    BE     FA    ST    RA    ER    ES    KA   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-396720" y="742680"/>
            <a:ext cx="9144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6 Lebensmo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as persönliche Motivationspro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1724400"/>
            <a:ext cx="8136000" cy="66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00000" y="2349360"/>
            <a:ext cx="7559640" cy="395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0328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800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1636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1964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2436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2764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3236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3564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036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4364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4836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95672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00000" y="429264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27082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00000" y="59500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22050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3040" y="5802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3800" y="40021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2520" y="6424560"/>
            <a:ext cx="810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MA    UN    NE    AN    OR    SP    EH    ID    BE     FA    ST    RA    ER    ES    KA   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2708280"/>
            <a:ext cx="503280" cy="158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403280" y="2708280"/>
            <a:ext cx="504720" cy="158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08000" y="2708280"/>
            <a:ext cx="503280" cy="324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410920" y="4292640"/>
            <a:ext cx="505080" cy="1657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16360" y="429264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24360" y="4292640"/>
            <a:ext cx="503280" cy="1657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427640" y="2708280"/>
            <a:ext cx="504720" cy="324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2708280"/>
            <a:ext cx="503280" cy="158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35640" y="4292640"/>
            <a:ext cx="201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451280" y="2708280"/>
            <a:ext cx="505080" cy="158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6720" y="2708280"/>
            <a:ext cx="502920" cy="324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-396720" y="742680"/>
            <a:ext cx="9144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6 Lebensmo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as persönliche Motivationspro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1724400"/>
            <a:ext cx="8136000" cy="66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2349360"/>
            <a:ext cx="7559640" cy="395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0328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0800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128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1964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2764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93236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43564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4036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4364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5164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956720" y="2349360"/>
            <a:ext cx="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00000" y="429264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27082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0000" y="595008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22050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3040" y="5802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3800" y="40021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2520" y="6424560"/>
            <a:ext cx="810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MA    UN    NE    AN    OR    SP    EH    ID    BE     FA    ST    RA    ER    ES    KA   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2708280"/>
            <a:ext cx="503280" cy="158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403280" y="2708280"/>
            <a:ext cx="504720" cy="158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8000" y="2708280"/>
            <a:ext cx="503280" cy="324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410920" y="4292640"/>
            <a:ext cx="505080" cy="1657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29264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24360" y="4292640"/>
            <a:ext cx="503280" cy="1657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427640" y="2708280"/>
            <a:ext cx="504720" cy="324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2360" y="2708280"/>
            <a:ext cx="503280" cy="158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35640" y="4292640"/>
            <a:ext cx="201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451280" y="2708280"/>
            <a:ext cx="505080" cy="158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956720" y="2708280"/>
            <a:ext cx="502920" cy="324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403280" y="3428640"/>
            <a:ext cx="0" cy="863640"/>
          </a:xfrm>
          <a:prstGeom prst="line">
            <a:avLst/>
          </a:prstGeom>
          <a:ln w="442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916360" y="3428640"/>
            <a:ext cx="0" cy="863640"/>
          </a:xfrm>
          <a:prstGeom prst="line">
            <a:avLst/>
          </a:prstGeom>
          <a:ln w="442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40360" y="4292640"/>
            <a:ext cx="0" cy="792000"/>
          </a:xfrm>
          <a:prstGeom prst="line">
            <a:avLst/>
          </a:prstGeom>
          <a:ln w="442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1724400"/>
            <a:ext cx="8136000" cy="66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1868760"/>
            <a:ext cx="8136000" cy="66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istungsanaly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nntnisse und Fähigkeiten des Mitarbei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„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ffen legen“ (Stärken und Schwäche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8360" y="1846440"/>
            <a:ext cx="8136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istungsanalyse: Kenntnisse und Fähigkeiten des Mitarbei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„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ffen legen“ (Stärken und Schwäc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itarbeiterpotential eruie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chstumspotent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07036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ie funktioniert Motiv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ie bekommt man die ganze Leistung de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itarbei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  Was demotiviert Mitarbei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.   Welche Motive treiben uns 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887480"/>
            <a:ext cx="8136000" cy="51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istungsanalyse: Kenntnisse und Fähigkeiten des Mitarbei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„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ffen legen“ (Stärken und Schwäc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itarbeiterpotential eruieren (Wachstumspot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fstiegsmöglichkeiten scha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8360" y="1887480"/>
            <a:ext cx="8136000" cy="49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istungsanalyse: Kenntnisse und Fähigkeiten des Mitarbei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„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ffen legen“ (Stärken und Schwäc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itarbeiterpotential eruieren (Wachstumspot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ufstiegsmöglichkeiten schaf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legie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Aufgaben, Ziele und erwartete Ergebnis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8360" y="1861560"/>
            <a:ext cx="8136000" cy="44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istungsanalyse: Kenntnisse und Fähigkeiten des Mitarbei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„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ffen legen“ (Stärken und Schwäc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itarbeiterpotential eruieren (Wachstumspot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ufstiegsmöglichkeiten schaf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legieren (Aufgaben, Ziele und erwartete Ergebnis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gabungen erkennen und förd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8360" y="1869480"/>
            <a:ext cx="813600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istungsanalyse: Kenntnisse und Fähigkeiten des Mitarbei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„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ffen legen“ (Stärken und Schwäc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itarbeiterpotential eruieren (Wachstumspot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ufstiegsmöglichkeiten schaf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legieren (Aufgaben, Ziele und erwartete Ergebnis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egabungen erkennen und för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llenanforderungen klar formul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1878840"/>
            <a:ext cx="81360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istungsanalyse: Kenntnisse und Fähigkeiten des Mitarbei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„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ffen legen“ (Stärken und Schwäc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itarbeiterpotential eruieren (Wachstumspot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ufstiegsmöglichkeiten schaf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legieren (Aufgaben, Ziele und erwartete Ergebnis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egabungen erkennen und för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ellenanforderungen klar formul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hlertolerantes Unternehmensumfeld bi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8360" y="1820160"/>
            <a:ext cx="81360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istungsanalyse: Kenntnisse und Fähigkeiten des Mitarbei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„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ffen legen“ (Stärken und Schwäc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itarbeiterpotential eruieren (Wachstumspot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ufstiegsmöglichkeiten schaf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legieren (Aufgaben, Ziele und erwartete Ergebnis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egabungen erkennen und för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ellenanforderungen klar formul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ehlertolerantes Unternehmensumfeld bi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fspüren von Energie-Block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8360" y="1828080"/>
            <a:ext cx="8136000" cy="42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istungsanalyse: Kenntnisse und Fähigkeiten des Mitarbei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„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ffen legen“ (Stärken und Schwäc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itarbeiterpotential eruieren (Wachstumspot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ufstiegsmöglichkeiten schaf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legieren (Aufgaben, Ziele und erwartete Ergebnis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egabungen erkennen und för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ellenanforderungen klar formul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ehlertolerantes Unternehmensumfeld bi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ufspüren von Energie-Blocka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eitnahes Feedback geb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ie gut habe ich gearbeit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8360" y="1836000"/>
            <a:ext cx="8136000" cy="40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istungsanalyse: Kenntnisse und Fähigkeiten des Mitarbei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„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ffen legen“ (Stärken und Schwäc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itarbeiterpotential eruieren (Wachstumspot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ufstiegsmöglichkeiten schaf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legieren (Aufgaben, Ziele und erwartete Ergebnis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egabungen erkennen und för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ellenanforderungen klar formul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ehlertolerantes Unternehmensumfeld bi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ufspüren von Energie-Blocka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Zeitnahes Feedback geben (Wie gut habe ich gearbeit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ilfestellung anbi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Kö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8360" y="1909800"/>
            <a:ext cx="81360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Leistungsanalyse: Kenntnisse und Fähigkeiten des Mitarbei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  „</a:t>
            </a: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offen legen“ (Stärken und Schwäc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Mitarbeiterpotential eruieren (Wachstumspot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ufstiegsmöglichkeiten schaf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Delegieren (Aufgaben, Ziele und erwartete Ergebnis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Begabungen erkennen und för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Stellenanforderungen klar formul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Fehlertolerantes Unternehmensumfeld bi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Aufspüren von Energie-Blocka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Zeitnahes Feedback geben (Wie gut habe ich gearbeit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Hilfestellung anbi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Spass am Lebenslangen Lernen fordern 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förd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207072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ie funktioniert Motiv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ie bekommt man die ganze Leistung de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itarbei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  Was demotiviert Mitarbei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.   Welche Motive treiben uns 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as kann die Bezahlung zur Mitarbeitermotiv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eitrag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Dür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8360" y="1724400"/>
            <a:ext cx="8136000" cy="66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5280" y="2205000"/>
            <a:ext cx="84978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Dür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8360" y="1724400"/>
            <a:ext cx="8136000" cy="66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5280" y="2205000"/>
            <a:ext cx="84978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1280" y="211932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54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usreichend Arbeitswerkzeu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4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PC, Schreibtisch, Unterlag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4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KW-Klimaanlage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54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54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rbeitsbedingun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4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Zugang zu Informationen, Berechtigung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4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udget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54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270000"/>
                <a:tab algn="l" pos="54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tscheidungsfreiräume (Verhandlungslimi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4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kur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4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0000"/>
                <a:tab algn="l" pos="54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D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Dür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8360" y="1724400"/>
            <a:ext cx="8136000" cy="66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5280" y="2205000"/>
            <a:ext cx="849780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ysische und geistige Tätigkeiten bie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Plan + Ausführen; Denken + T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Dür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8360" y="1724400"/>
            <a:ext cx="8136000" cy="66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5280" y="2205000"/>
            <a:ext cx="84978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hysische und geistige Tätigkeiten bie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Plan + Ausführen; Denken + T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estalterische Tätigkeiten bie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Neugierverhalten ermöglichen und zulass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Dür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8360" y="1724400"/>
            <a:ext cx="8136000" cy="66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5280" y="2205000"/>
            <a:ext cx="849780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hysische und geistige Tätigkeiten bie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Plan + Ausführen; Denken + T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stalterische Tätigkeiten bie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Neugierverhalten ermöglichen und zulass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duktive Tätigkeiten bie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Das Verhältnis von aufgewendeter Energie zu produzierter Energi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llte möglichst günstig ausfal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Dür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1724400"/>
            <a:ext cx="8136000" cy="66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5280" y="2205000"/>
            <a:ext cx="8497800" cy="56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hysische und geistige Tätigkeiten bie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Plan + Ausführen; Denken + T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stalterische Tätigkeiten bie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Neugierverhalten ermöglichen und zulass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duktive Tätigkeiten bie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Das Verhältnis von aufgewendeter Energie zu produzierter Energie soll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öglichst günstig ausfal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aktive Tätigkeiten bie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Soziale Kontakte und Zusammenarbe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Dür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8360" y="1724400"/>
            <a:ext cx="8136000" cy="66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5280" y="2205000"/>
            <a:ext cx="84978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hysische und geistige Tätigkeiten bie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Plan + Ausführen; Denken + T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stalterische Tätigkeiten bie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Neugierverhalten ermöglichen und zulass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duktive Tätigkeiten bie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Das Verhältnis von aufgewendeter Energie zu produzierter Energie soll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öglichst günstig ausfal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eraktive Tätigkeiten bie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Soziale Kontakte und Zusammenarbe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erichtete Tätigkeiten bie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Adressat der Arbeit und sein Nutzen dara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ollte erkennbar se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: Dür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1724400"/>
            <a:ext cx="8136000" cy="66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5280" y="2205000"/>
            <a:ext cx="849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hysische und geistige Tätigkeiten bie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Plan + Ausführen; Denken + T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stalterische Tätigkeiten bie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Neugierverhalten ermöglichen und zulass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duktive Tätigkeiten bie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Das Verhältnis von aufgewendeter Energie zu produzierter Energie soll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öglichst günstig ausfal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eraktive Tätigkeiten bie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Soziale Kontakte und Zusammenarbe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richtete Tätigkeiten bie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Adressat der Arbeit und sein Nutzen daraus sollte erkennbar se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obs für Menschen kre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anstatt Menschen für Jobs zu finde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5280" y="207036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5280" y="1989000"/>
            <a:ext cx="835344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1. Wie funktioniert Motiv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EIN: Motivierung (Erbrachte Leistung &lt; Mögliche Leistung) </a:t>
            </a:r>
            <a:r>
              <a:rPr b="1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edro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estra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este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eloh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elob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A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(Leistungsbereitschaft vorhanden) </a:t>
            </a:r>
            <a:r>
              <a:rPr b="1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r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örd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rmögli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5280" y="207036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95280" y="1989000"/>
            <a:ext cx="835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2. Wie bekommt man die ganze Leistung des Mitarbei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istungsbereitschaft (vom Mitarbeit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istungsfähigkeit (vom Mitarbeiter, gefördert vom Vorgesetzte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istungsvoraussetzungen (vom Vorgesetz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207036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1989000"/>
            <a:ext cx="835344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3. Was demotiviert Mitarbeiter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r direkte Vorgesetz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ehlende Leistungsvoraussetz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ernachlässigte Förderung der Leistungsfäh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tivierung auf Basis von Misstrau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207036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1989000"/>
            <a:ext cx="83534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4. Welche Motive treiben uns 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ine Mixtur aus den 16 Lebensmot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ominante Lebensmotive sind der Wegweiser zu sinnerfüll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e erfolgreiche Bewältigung von Herausforderungen erforde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estimmte stark ausgeprägte Mo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enetischer Fingerabdruck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95280" y="207036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5280" y="1989000"/>
            <a:ext cx="835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5. Was kann die Bezahlung zur Mitarbeitermotivation beitra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Ziel: Faire Entlohnung für vereinbarte Leistung (Hygienefak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Bezahlung gemäß dem Leistungsniveau und –beit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Bezahlung muß das Geleistete abbilden (faire, objektive Zi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Einmalige Leistungen analog Verbesserungsvorschlä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bgel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utomatisierte, erwartete Gehaltssteigerungen vermei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396720" y="92556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3930480"/>
            <a:ext cx="842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99200" y="469800"/>
            <a:ext cx="514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tivation für Höchstleistung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eistungsfakt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1600200"/>
            <a:ext cx="1066680" cy="304812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4800600"/>
            <a:ext cx="106668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8640" y="2449440"/>
            <a:ext cx="114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V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itarbei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komm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69280" y="4299120"/>
            <a:ext cx="134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V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Vorgesetzt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komm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3200" y="5715000"/>
            <a:ext cx="135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O L L E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istung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reitsc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83080" y="5715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0040" y="57150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5:36:04Z</dcterms:created>
  <dc:creator>Admin</dc:creator>
  <dc:description/>
  <dc:language>en-US</dc:language>
  <cp:lastModifiedBy>Christoph</cp:lastModifiedBy>
  <dcterms:modified xsi:type="dcterms:W3CDTF">2006-08-06T19:24:38Z</dcterms:modified>
  <cp:revision>63</cp:revision>
  <dc:subject/>
  <dc:title>Folie 1</dc:title>
</cp:coreProperties>
</file>