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093080" y="260280"/>
            <a:ext cx="1619280" cy="1112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181080" y="39384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Kunst der Verhandlungsführ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7 Schritte vom „Nein“ zum „Ja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181080" y="39384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Kunst der Verhandlungsführ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7 Schritte vom „Nein“ zum „Ja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40240" y="1413000"/>
            <a:ext cx="1536840" cy="149364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Sympathi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12000" y="1539720"/>
            <a:ext cx="287280" cy="289080"/>
          </a:xfrm>
          <a:prstGeom prst="ellipse">
            <a:avLst/>
          </a:prstGeom>
          <a:solidFill>
            <a:srgbClr val="ff00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8120" y="153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707160" y="2781360"/>
            <a:ext cx="1536840" cy="149364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Century Gothic"/>
              </a:rPr>
              <a:t>Informations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181080" y="39384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Kunst der Verhandlungsführ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7 Schritte vom „Nein“ zum „Ja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40240" y="1413000"/>
            <a:ext cx="1536840" cy="149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Sympathi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08720" y="2924280"/>
            <a:ext cx="287640" cy="288720"/>
          </a:xfrm>
          <a:prstGeom prst="ellipse">
            <a:avLst/>
          </a:prstGeom>
          <a:solidFill>
            <a:srgbClr val="ff00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1539720"/>
            <a:ext cx="287280" cy="289080"/>
          </a:xfrm>
          <a:prstGeom prst="ellipse">
            <a:avLst/>
          </a:prstGeom>
          <a:solidFill>
            <a:srgbClr val="ff00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18120" y="153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707160" y="2781360"/>
            <a:ext cx="1536840" cy="149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Century Gothic"/>
              </a:rPr>
              <a:t>Informations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51640" y="4311720"/>
            <a:ext cx="1538280" cy="1493640"/>
          </a:xfrm>
          <a:prstGeom prst="ellipse">
            <a:avLst/>
          </a:prstGeom>
          <a:solidFill>
            <a:srgbClr val="bbe0e3">
              <a:alpha val="60000"/>
            </a:srgbClr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Nutzen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181080" y="39384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Kunst der Verhandlungsführ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7 Schritte vom „Nein“ zum „Ja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40240" y="1413000"/>
            <a:ext cx="1536840" cy="149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Sympathi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29440" y="4419720"/>
            <a:ext cx="287280" cy="288720"/>
          </a:xfrm>
          <a:prstGeom prst="ellipse">
            <a:avLst/>
          </a:prstGeom>
          <a:solidFill>
            <a:srgbClr val="ff00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35560" y="441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08720" y="2924280"/>
            <a:ext cx="287640" cy="288720"/>
          </a:xfrm>
          <a:prstGeom prst="ellipse">
            <a:avLst/>
          </a:prstGeom>
          <a:solidFill>
            <a:srgbClr val="ff00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12000" y="1539720"/>
            <a:ext cx="287280" cy="289080"/>
          </a:xfrm>
          <a:prstGeom prst="ellipse">
            <a:avLst/>
          </a:prstGeom>
          <a:solidFill>
            <a:srgbClr val="ff00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8120" y="153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707160" y="2781360"/>
            <a:ext cx="1536840" cy="149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Century Gothic"/>
              </a:rPr>
              <a:t>Informations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51640" y="4311720"/>
            <a:ext cx="1538280" cy="1493640"/>
          </a:xfrm>
          <a:prstGeom prst="ellipse">
            <a:avLst/>
          </a:prstGeom>
          <a:solidFill>
            <a:srgbClr val="ffffff">
              <a:alpha val="60000"/>
            </a:srgbClr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Nutzen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4815000"/>
            <a:ext cx="1538280" cy="1493640"/>
          </a:xfrm>
          <a:prstGeom prst="ellipse">
            <a:avLst/>
          </a:prstGeom>
          <a:solidFill>
            <a:srgbClr val="bbe0e3">
              <a:alpha val="60000"/>
            </a:srgbClr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Produkt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181080" y="39384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Kunst der Verhandlungsführ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7 Schritte vom „Nein“ zum „Ja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40240" y="1413000"/>
            <a:ext cx="1536840" cy="149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Sympathi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13080" y="4941720"/>
            <a:ext cx="287640" cy="289080"/>
          </a:xfrm>
          <a:prstGeom prst="ellipse">
            <a:avLst/>
          </a:prstGeom>
          <a:solidFill>
            <a:srgbClr val="ff00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19560" y="4941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9440" y="4419720"/>
            <a:ext cx="287280" cy="288720"/>
          </a:xfrm>
          <a:prstGeom prst="ellipse">
            <a:avLst/>
          </a:prstGeom>
          <a:solidFill>
            <a:srgbClr val="ff00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35560" y="441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08720" y="2924280"/>
            <a:ext cx="287640" cy="288720"/>
          </a:xfrm>
          <a:prstGeom prst="ellipse">
            <a:avLst/>
          </a:prstGeom>
          <a:solidFill>
            <a:srgbClr val="ff00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1539720"/>
            <a:ext cx="287280" cy="289080"/>
          </a:xfrm>
          <a:prstGeom prst="ellipse">
            <a:avLst/>
          </a:prstGeom>
          <a:solidFill>
            <a:srgbClr val="ff00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8120" y="153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707160" y="2781360"/>
            <a:ext cx="1536840" cy="149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Century Gothic"/>
              </a:rPr>
              <a:t>Informations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51640" y="4311720"/>
            <a:ext cx="1538280" cy="1493640"/>
          </a:xfrm>
          <a:prstGeom prst="ellipse">
            <a:avLst/>
          </a:prstGeom>
          <a:solidFill>
            <a:srgbClr val="ffffff">
              <a:alpha val="60000"/>
            </a:srgbClr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Nutzen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4815000"/>
            <a:ext cx="1538280" cy="1493640"/>
          </a:xfrm>
          <a:prstGeom prst="ellipse">
            <a:avLst/>
          </a:prstGeom>
          <a:solidFill>
            <a:srgbClr val="ffffff">
              <a:alpha val="60000"/>
            </a:srgbClr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Produkt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47640" y="4311720"/>
            <a:ext cx="1536840" cy="1493640"/>
          </a:xfrm>
          <a:prstGeom prst="ellipse">
            <a:avLst/>
          </a:prstGeom>
          <a:solidFill>
            <a:srgbClr val="bbe0e3">
              <a:alpha val="60000"/>
            </a:srgbClr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Einwand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Vorwand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181080" y="39384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Kunst der Verhandlungsführ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7 Schritte vom „Nein“ zum „Ja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40240" y="1413000"/>
            <a:ext cx="1536840" cy="149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Sympathi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95640" y="4365720"/>
            <a:ext cx="287280" cy="288720"/>
          </a:xfrm>
          <a:prstGeom prst="ellipse">
            <a:avLst/>
          </a:prstGeom>
          <a:solidFill>
            <a:srgbClr val="ff00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01760" y="4365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13080" y="4941720"/>
            <a:ext cx="287640" cy="289080"/>
          </a:xfrm>
          <a:prstGeom prst="ellipse">
            <a:avLst/>
          </a:prstGeom>
          <a:solidFill>
            <a:srgbClr val="ff00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19560" y="4941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29440" y="4419720"/>
            <a:ext cx="287280" cy="288720"/>
          </a:xfrm>
          <a:prstGeom prst="ellipse">
            <a:avLst/>
          </a:prstGeom>
          <a:solidFill>
            <a:srgbClr val="ff00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35560" y="441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08720" y="2924280"/>
            <a:ext cx="287640" cy="288720"/>
          </a:xfrm>
          <a:prstGeom prst="ellipse">
            <a:avLst/>
          </a:prstGeom>
          <a:solidFill>
            <a:srgbClr val="ff00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1539720"/>
            <a:ext cx="287280" cy="289080"/>
          </a:xfrm>
          <a:prstGeom prst="ellipse">
            <a:avLst/>
          </a:prstGeom>
          <a:solidFill>
            <a:srgbClr val="ff00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18120" y="153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707160" y="2781360"/>
            <a:ext cx="1536840" cy="149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Century Gothic"/>
              </a:rPr>
              <a:t>Informations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51640" y="4311720"/>
            <a:ext cx="1538280" cy="1493640"/>
          </a:xfrm>
          <a:prstGeom prst="ellipse">
            <a:avLst/>
          </a:prstGeom>
          <a:solidFill>
            <a:srgbClr val="ffffff">
              <a:alpha val="60000"/>
            </a:srgbClr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Nutzen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35280" y="4815000"/>
            <a:ext cx="1538280" cy="1493640"/>
          </a:xfrm>
          <a:prstGeom prst="ellipse">
            <a:avLst/>
          </a:prstGeom>
          <a:solidFill>
            <a:srgbClr val="ffffff">
              <a:alpha val="60000"/>
            </a:srgbClr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Produkt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7640" y="4311720"/>
            <a:ext cx="1536840" cy="1493640"/>
          </a:xfrm>
          <a:prstGeom prst="ellipse">
            <a:avLst/>
          </a:prstGeom>
          <a:solidFill>
            <a:srgbClr val="ffffff">
              <a:alpha val="60000"/>
            </a:srgbClr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Einwand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Vorwand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2798640"/>
            <a:ext cx="1536480" cy="1494000"/>
          </a:xfrm>
          <a:prstGeom prst="ellipse">
            <a:avLst/>
          </a:prstGeom>
          <a:solidFill>
            <a:srgbClr val="bbe0e3">
              <a:alpha val="60000"/>
            </a:srgbClr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Einigungs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81080" y="39384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Kunst der Verhandlungsführ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7 Schritte vom „Nein“ zum „Ja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40240" y="1413000"/>
            <a:ext cx="1536840" cy="149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Sympathi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42920" y="2924280"/>
            <a:ext cx="287280" cy="288720"/>
          </a:xfrm>
          <a:prstGeom prst="ellipse">
            <a:avLst/>
          </a:prstGeom>
          <a:solidFill>
            <a:srgbClr val="ff00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4904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4365720"/>
            <a:ext cx="287280" cy="288720"/>
          </a:xfrm>
          <a:prstGeom prst="ellipse">
            <a:avLst/>
          </a:prstGeom>
          <a:solidFill>
            <a:srgbClr val="ff00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01760" y="4365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13080" y="4941720"/>
            <a:ext cx="287640" cy="289080"/>
          </a:xfrm>
          <a:prstGeom prst="ellipse">
            <a:avLst/>
          </a:prstGeom>
          <a:solidFill>
            <a:srgbClr val="ff00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19560" y="4941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29440" y="4419720"/>
            <a:ext cx="287280" cy="288720"/>
          </a:xfrm>
          <a:prstGeom prst="ellipse">
            <a:avLst/>
          </a:prstGeom>
          <a:solidFill>
            <a:srgbClr val="ff00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35560" y="441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08720" y="2924280"/>
            <a:ext cx="287640" cy="288720"/>
          </a:xfrm>
          <a:prstGeom prst="ellipse">
            <a:avLst/>
          </a:prstGeom>
          <a:solidFill>
            <a:srgbClr val="ff00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1520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12000" y="1539720"/>
            <a:ext cx="287280" cy="289080"/>
          </a:xfrm>
          <a:prstGeom prst="ellipse">
            <a:avLst/>
          </a:prstGeom>
          <a:solidFill>
            <a:srgbClr val="ff00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18120" y="153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979640" y="1413000"/>
            <a:ext cx="1536840" cy="149364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Umsetzungs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07160" y="2781360"/>
            <a:ext cx="1536840" cy="149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Century Gothic"/>
              </a:rPr>
              <a:t>Informations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651640" y="4311720"/>
            <a:ext cx="1538280" cy="1493640"/>
          </a:xfrm>
          <a:prstGeom prst="ellipse">
            <a:avLst/>
          </a:prstGeom>
          <a:solidFill>
            <a:srgbClr val="ffffff">
              <a:alpha val="60000"/>
            </a:srgbClr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Nutzen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35280" y="4815000"/>
            <a:ext cx="1538280" cy="1493640"/>
          </a:xfrm>
          <a:prstGeom prst="ellipse">
            <a:avLst/>
          </a:prstGeom>
          <a:solidFill>
            <a:srgbClr val="ffffff">
              <a:alpha val="60000"/>
            </a:srgbClr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Produkt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47640" y="4311720"/>
            <a:ext cx="1536840" cy="1493640"/>
          </a:xfrm>
          <a:prstGeom prst="ellipse">
            <a:avLst/>
          </a:prstGeom>
          <a:solidFill>
            <a:srgbClr val="ffffff">
              <a:alpha val="60000"/>
            </a:srgbClr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Einwand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Vorwand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2798640"/>
            <a:ext cx="1536480" cy="1494000"/>
          </a:xfrm>
          <a:prstGeom prst="ellipse">
            <a:avLst/>
          </a:prstGeom>
          <a:noFill/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Einigungs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181080" y="39384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Kunst der Verhandlungsführ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7 Schritte vom „Nein“ zum „Ja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40240" y="1413000"/>
            <a:ext cx="1536840" cy="149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Sympathi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42920" y="2924280"/>
            <a:ext cx="287280" cy="288720"/>
          </a:xfrm>
          <a:prstGeom prst="ellipse">
            <a:avLst/>
          </a:prstGeom>
          <a:solidFill>
            <a:srgbClr val="ff00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4904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95640" y="4365720"/>
            <a:ext cx="287280" cy="288720"/>
          </a:xfrm>
          <a:prstGeom prst="ellipse">
            <a:avLst/>
          </a:prstGeom>
          <a:solidFill>
            <a:srgbClr val="ff00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01760" y="4365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13080" y="4941720"/>
            <a:ext cx="287640" cy="289080"/>
          </a:xfrm>
          <a:prstGeom prst="ellipse">
            <a:avLst/>
          </a:prstGeom>
          <a:solidFill>
            <a:srgbClr val="ff00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19560" y="4941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229440" y="4419720"/>
            <a:ext cx="287280" cy="288720"/>
          </a:xfrm>
          <a:prstGeom prst="ellipse">
            <a:avLst/>
          </a:prstGeom>
          <a:solidFill>
            <a:srgbClr val="ff00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35560" y="441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08720" y="2924280"/>
            <a:ext cx="287640" cy="288720"/>
          </a:xfrm>
          <a:prstGeom prst="ellipse">
            <a:avLst/>
          </a:prstGeom>
          <a:solidFill>
            <a:srgbClr val="ff00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292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29080" y="1539720"/>
            <a:ext cx="287280" cy="289080"/>
          </a:xfrm>
          <a:prstGeom prst="ellipse">
            <a:avLst/>
          </a:prstGeom>
          <a:solidFill>
            <a:srgbClr val="ff00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35200" y="153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2000" y="1539720"/>
            <a:ext cx="287280" cy="289080"/>
          </a:xfrm>
          <a:prstGeom prst="ellipse">
            <a:avLst/>
          </a:prstGeom>
          <a:solidFill>
            <a:srgbClr val="ff00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8120" y="153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-181080" y="913680"/>
            <a:ext cx="9144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Kunst der Verhandlungsführ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83600" y="2814480"/>
            <a:ext cx="464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i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Einwandbehandl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686960"/>
            <a:ext cx="9144000" cy="27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Die Kunst der Verhandlungsführu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181080" y="730800"/>
            <a:ext cx="9144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Kunst der Verhandlungsführ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Einwandbehand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3920" y="2102760"/>
            <a:ext cx="725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ich für das Gegenargument bedank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-181080" y="730800"/>
            <a:ext cx="9144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Kunst der Verhandlungsführ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Einwandbehand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23960" y="2056680"/>
            <a:ext cx="773424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Sich für das Gegenargument bedank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Das Motiv für das Gegenargument su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Einwand = objektives Gegen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Vorwand = subjektives Schein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(Wenn Vorwand, dann das wirklich objek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Gegenargument hinter dem Schein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argument such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181080" y="730800"/>
            <a:ext cx="9144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Kunst der Verhandlungsführ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Einwandbehand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6000" y="2068200"/>
            <a:ext cx="663804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ch für das Gegenargument bedank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as Motiv für das Gegenargument su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. Auf den Einwand eing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gt;&gt; Niederlagenlose Meth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181080" y="730800"/>
            <a:ext cx="9144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Kunst der Verhandlungsführ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Einwandbehand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6000" y="2068200"/>
            <a:ext cx="663804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ch für das Gegenargument bedank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as Motiv für das Gegenargument su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. Auf den Einwand eing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iederlagenlose Meth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gt;&gt; Aktives Zuhö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-181080" y="730800"/>
            <a:ext cx="9144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Kunst der Verhandlungsführ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Einwandbehand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6000" y="2068200"/>
            <a:ext cx="663804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ch für das Gegenargument bedank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as Motiv für das Gegenargument su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. Auf den Einwand eing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iederlagenlose Meth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ktives Zuhö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gt;&gt; Bedingte Zustimm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-181080" y="730800"/>
            <a:ext cx="9144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Kunst der Verhandlungsführ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Einwandbehand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6000" y="2068200"/>
            <a:ext cx="663804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ch für das Gegenargument bedank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as Motiv für das Gegenargument su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. Auf den Einwand eing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iederlagenlose Meth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ktives Zuhö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edingte Zustimm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gt;&gt; Vorwegnahme des Einw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-181080" y="730800"/>
            <a:ext cx="9144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Kunst der Verhandlungsführ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Einwandbehand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6000" y="2068200"/>
            <a:ext cx="663804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ch für das Gegenargument bedank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as Motiv für das Gegenargument su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. Auf den Einwand eing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iederlagenlose Meth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ktives Zuhö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edingte Zustimm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orwegnahme des Einw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gt;&gt; Referenz-Meth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-181080" y="730800"/>
            <a:ext cx="9144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Kunst der Verhandlungsführ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Einwandbehand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6000" y="2026440"/>
            <a:ext cx="66380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ch für das Gegenargument bedank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as Motiv für das Gegenargument su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. Auf den Einwand eing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iederlagenlose Meth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ktives Zuhö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edingte Zustimm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orwegnahme des Einw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ferenz-Meth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gt;&gt; Umkehr-Meth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-181080" y="730800"/>
            <a:ext cx="9144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Kunst der Verhandlungsführ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Einwandbehand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6000" y="2026440"/>
            <a:ext cx="66380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Sich für das Gegenargument bedank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Das Motiv für das Gegenargument su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3. Auf den Einwand eing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Niederlagenlose Meth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Aktives Zuhö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Bedingte Zustimm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Vorwegnahme des Einw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Referenz-Meth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Umkehr-Meth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&gt;&gt; </a:t>
            </a: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Wenn-Dann-Meth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-181080" y="730800"/>
            <a:ext cx="9144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Kunst der Verhandlungsführ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Einwandbehand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3720" y="2069640"/>
            <a:ext cx="73026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ch für das Gegenargument bedank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as Motiv für das Gegenargument su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. Auf den Einwand eing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. Positive Gesprächsfortsetz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Kunst der Verhandlungsführ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2247840"/>
            <a:ext cx="8424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odurch zeichnet sich eine erfolgreiche Verhandlung a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-468360" y="835560"/>
            <a:ext cx="9144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Kunst der Verhandlungsführ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1280" y="1843920"/>
            <a:ext cx="8208720" cy="21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1.  Wodurch zeichnet sich eine erfolgreiche Verhandlung a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achgerecht verhandeln (nicht Feilschen um Positionen),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it dem Ziel e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ffizient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ational nachvollziehbaren 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ütlichen Eini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-468360" y="835560"/>
            <a:ext cx="9144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Kunst der Verhandlungsführ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1835280"/>
            <a:ext cx="8208720" cy="46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333399"/>
                </a:solidFill>
                <a:uFillTx/>
                <a:latin typeface="Arial"/>
              </a:rPr>
              <a:t>1.  Wodurch zeichnet sich eine erfolgreiche Verhandlung a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Sachgerecht verhandeln (nicht Feilschen um Positionen),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mit dem Ziel e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effizient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rational nachvollziehbaren 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gütlichen Eini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333399"/>
                </a:solidFill>
                <a:uFillTx/>
                <a:latin typeface="Arial"/>
              </a:rPr>
              <a:t>2.  Wie läuft eine Verhandlung idealerweise ab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Sympathiephase (Aufbau positive Atmosphä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Informationsphase (Bedürfnisse erkund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Nutzenphase (Vorteile für den Anderen herausarbei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Produktphase (Alternativen aufzeig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Einwand-Vorwand-Phase (Einwände auflös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Einigungsphase (Verhandlungsergebnis erreich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Umsetzungsphase (Tragfähige Lösung sicherstel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-468360" y="835560"/>
            <a:ext cx="9144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Kunst der Verhandlungsführ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1280" y="1843200"/>
            <a:ext cx="7921440" cy="49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333399"/>
                </a:solidFill>
                <a:uFillTx/>
                <a:latin typeface="Arial"/>
              </a:rPr>
              <a:t>3.  Wie schafft man einen positiven Gesprächseinstie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Lächeln, positive Sig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Hum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Nice-to-have-Fakto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Äußerlich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Guter Small-Ta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Gefühl vermitteln, den Anderen  v o r u r t e i l s f r e i  zu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behandel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-468360" y="835560"/>
            <a:ext cx="9144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Kunst der Verhandlungsführ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1280" y="1843920"/>
            <a:ext cx="792144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4. Welche Interessen der Gegenseite sind bei Verhandl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zu berücksichtig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achliche Intere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motionale Intere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ersönliche Intere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-468360" y="835560"/>
            <a:ext cx="9144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Kunst der Verhandlungsführ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1280" y="1851120"/>
            <a:ext cx="7921440" cy="43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4. Welche Interessen der Gegenseite sind bei Verhandl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zu berücksichtig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achliche Intere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motionale Intere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ersönliche Intere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5. Wie verbessert man seine Verhandlungsmac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inzigartige Vorteile bzw. Argu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issen über Verhandlungspart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Verhandlungsstrategie der Gegenseite „erahne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ettbewerbssituation ke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bjektive Beurteilungskriter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Kreative Op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lternative zum NEIN bzw. Verhandlungsabbruch h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-468360" y="835560"/>
            <a:ext cx="9144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Kunst der Verhandlungsführ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1851120"/>
            <a:ext cx="7921440" cy="43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333399"/>
                </a:solidFill>
                <a:uFillTx/>
                <a:latin typeface="Arial"/>
              </a:rPr>
              <a:t>6. Wie kann in einer kritischen Verhandlungssituation ein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de-DE" sz="2000" spc="-1" strike="noStrike" u="sng">
                <a:solidFill>
                  <a:srgbClr val="333399"/>
                </a:solidFill>
                <a:uFillTx/>
                <a:latin typeface="Arial"/>
              </a:rPr>
              <a:t>Entscheidung herbeigeführt wer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F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Risks &amp;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1686960"/>
            <a:ext cx="9144000" cy="27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Die Kunst der Verhandlungsführu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Kunst der Verhandlungsführ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247840"/>
            <a:ext cx="8424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Wodurch zeichnet sich eine erfolgreiche Verhandlung a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2.  Wie läuft eine Verhandlung idealerweise ab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Kunst der Verhandlungsführ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2247840"/>
            <a:ext cx="8424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Wodurch zeichnet sich eine erfolgreiche Verhandlung a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2.  Wie läuft eine Verhandlung idealerweise ab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3.  Wie schafft man einen positiven Gesprächseinstie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Kunst der Verhandlungsführ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2247840"/>
            <a:ext cx="8424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Wodurch zeichnet sich eine erfolgreiche Verhandlung a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2.  Wie läuft eine Verhandlung idealerweise ab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3.  Wie schafft man einen positiven Gesprächseinstie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4.  Welche Interessen der Gegenseite sind bei Verhandlungen zu berücksichtig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Kunst der Verhandlungsführ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2252520"/>
            <a:ext cx="8424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Wodurch zeichnet sich eine erfolgreiche Verhandlung a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2.  Wie läuft eine Verhandlung idealerweise ab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3.  Wie schafft man einen positiven Gesprächseinstie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4.  Welche Interessen der Gegenseite sind bei Verhandlungen zu berücksichtig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Wie verbessert man seine Verhandlungsmac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Kunst der Verhandlungsführu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2247840"/>
            <a:ext cx="8424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Wodurch zeichnet sich eine erfolgreiche Verhandlung a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2.  Wie läuft eine Verhandlung idealerweise ab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3.  Wie schafft man einen positiven Gesprächseinstie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4.  Welche Interessen der Gegenseite sind bei Verhandlungen zu berücksichtig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5.  Wie verbessert man seine Verhandlungsmac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6.  Wie kann in einer kritischen Verhandlungssituation eine Entscheidung herbeigeführt wer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15:36:04Z</dcterms:created>
  <dc:creator>Admin</dc:creator>
  <dc:description/>
  <dc:language>en-US</dc:language>
  <cp:lastModifiedBy>Prof. Christoph Ewert</cp:lastModifiedBy>
  <dcterms:modified xsi:type="dcterms:W3CDTF">2007-11-11T20:16:47Z</dcterms:modified>
  <cp:revision>47</cp:revision>
  <dc:subject/>
  <dc:title>Folie 1</dc:title>
</cp:coreProperties>
</file>