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8520" y="299736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amle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8520" y="299736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amle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2205000"/>
            <a:ext cx="223236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29973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eam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7440" y="276228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8520" y="299736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amle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2205000"/>
            <a:ext cx="223236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29973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eam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436572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11960" y="515772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amreg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7440" y="276228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73800" y="45626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8520" y="299736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amle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2205000"/>
            <a:ext cx="223236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29973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eam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36572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11960" y="515772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amreg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7440" y="276228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3800" y="45626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74920" y="2813040"/>
            <a:ext cx="4321440" cy="27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eamerfol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181080" y="894240"/>
            <a:ext cx="91440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6880" y="2492280"/>
            <a:ext cx="661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0 Schritte zur Steigeru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s Team-Erfol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2248920"/>
            <a:ext cx="914400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lares Ziel / Sinnvolle 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lbstbestimmten Weg zum Ziel zu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asen der Teamentwicklung man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eln implem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ffene Kommunikationskultu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-Konflikte l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terogenität för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 zwischen harten und weichen Faktoren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genseitige Anfeuerung/Begeisterung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ystematische Vorgehensweise sicherstell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275200"/>
            <a:ext cx="914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lares Ziel / Sinnvolle 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le arbeiten auf ein gemeinsames Ziel 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Teamleiter setzt die grundsätzlichen 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Team bestimmt das Übr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27484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lares Ziel / Sinnvolle 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Alle arbeiten auf ein gemeinsames Ziel 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er Teamleiter setzt die grundsätzlichen 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as Team bestimmt das Übr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innvolle Arbeit: in welcher Form hilft die Arbeit and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ewußtsein, daß wir die Welt besser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as Ergebnis ist ein gutes Selbstwertgefü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9520"/>
            <a:ext cx="914400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lares Ziel / Sinnvolle 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Alle arbeiten auf ein gemeinsames Ziel 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er Teamleiter setzt die grundsätzlichen 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as Team bestimmt das Übr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Sinnvolle Arbeit: in welcher Form hilft die Arbeit and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Bewußtsein, daß wir die Welt besser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as Ergebnis ist ein gutes Selbstwertgefü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estimmte Werte liegen allen Handlungen zugr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Ziele sind für die Zukunft 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Werte bestimmen das Hier und Jetz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92880"/>
            <a:ext cx="91440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Gewinner - T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349360"/>
            <a:ext cx="914400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Klares Ziel / Sinnvolle Arb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elbstbestimmten Weg zum Ziel zu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Ziele und Werte bestimmen das Ausmaß des Spielfel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er Teamleiter muß den Spielern dann das Spielfeld über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Jeder übernimmt die Führung aus dem Wissen heraus, wofür 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zuständig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341080"/>
            <a:ext cx="914400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Klares Ziel / Sinnvolle Arb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elbstbestimmten Weg zum Ziel zulas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n der Teamentwicklung man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181080" y="894240"/>
            <a:ext cx="91440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asen der Team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341440"/>
            <a:ext cx="8352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Phase I:    Forming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Zusammensetzung und Bildung des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1080" y="894240"/>
            <a:ext cx="91440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asen der Team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234144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hase I:    For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Zusammensetzung und Bildung des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Phase II:   Storming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ampf und Reibung um die Hackordnung im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81080" y="894240"/>
            <a:ext cx="91440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asen der Team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341440"/>
            <a:ext cx="8352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hase I:    For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Zusammensetzung und Bildung des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hase II:   Stormi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ampf und Reibung um die Hackordnung im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Phase III:  Norming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Findung und Etablierung der Aufgabenve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181080" y="894240"/>
            <a:ext cx="91440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asen der Team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341440"/>
            <a:ext cx="835200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hase I:    Formi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Zusammensetzung und Bildung des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hase II:   Storming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ampf und Reibung um die Hackordnung im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hase III:  Normi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Findung und Etablierung der Aufgabenvertei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Phase IV: Performing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rarbeitung erfolgversprechender Arbeitserge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81080" y="894240"/>
            <a:ext cx="91440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asen der Team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341440"/>
            <a:ext cx="835200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hase I:    Forming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Zusammensetzung und Bildung des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hase II:   Storming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ampf und Reibung um die Hackordnung im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hase III:  Normi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Findung und Etablierung der Aufgabenvertei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Phase IV: Performing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Erarbeitung erfolgversprechender Arbeits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1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19280" y="6165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08000" y="5084640"/>
            <a:ext cx="38163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200" y="47800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ektiv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0840" y="6192720"/>
            <a:ext cx="424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orming     Storming     Norming    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Per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563560"/>
            <a:ext cx="914400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Klares Ziel / Sinnvolle Arb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Selbstbestimmten Weg zum Ziel zul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Phasen der Teamentwicklung man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Regeln implem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innvolle und notwendige Regeln auf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rmessensspielraum / Auslegung zu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Ungeschriebene Gesetze offenlegen/respek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innloses und Kontraproduktives eliminieren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2316960"/>
            <a:ext cx="91440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lares Ziel / Sinnvoll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lbstbestimmten Weg zum Ziel zul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asen der Teamentwicklung man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geln implement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fene Kommunikationskultu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formation ist der Schlüssel zur Macht – jeder braucht 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eingeschränkten Zugang zur Inform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chselseitiges Vertrauen implemen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ahrheiten werden direkt angespro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2348280"/>
            <a:ext cx="91440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Klares Ziel / Sinnvolle Arbei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5. Offene Kommunikationskultur sch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elbstbestimmten Weg zum Ziel zul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hasen der Teamentwicklung man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geln implement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am-Konflikte l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nsequent gegen persönliche Konflikte vor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achliche Konflikte eher för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in: Diskussionen = Vorstellung fertiger 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a: Dialog = Hinterfragen von Ansä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369880"/>
            <a:ext cx="9144000" cy="35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Klares Ziel / Sinnvoll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rbeit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Offene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Kommunikationskultur sch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elbstbestimmten Weg zum Ziel zulasse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6.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am-Konflikte lö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hasen der Teamentwicklung man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geln implement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 Heterogenität för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Ähnlichkeit verbin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er: Heterogenität steigert die Leis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 ver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52360" y="1844280"/>
            <a:ext cx="964872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De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rfind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ringt die schrägen Ideen ein, zeichnet s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urch unorthodoxes Denken a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52360" y="1844280"/>
            <a:ext cx="964872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Der Erfi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De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ordinato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kontrolliert und organisiert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maktivitä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252360" y="1843920"/>
            <a:ext cx="9648720" cy="31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Der Erfi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Der Koordin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De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obacht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untersucht Ideen und Vorschläge auf ih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chbarkeit und ihren Nutzen für die Ziele des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252360" y="1843920"/>
            <a:ext cx="964872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Der Erfi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Der K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Der Beobach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De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setz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setzt die Konzepte und Pläne in praktik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beitspläne um. Arbeitet diszipliniert und verlässl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252360" y="1843920"/>
            <a:ext cx="964872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1. Der Erfi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. Der Koordin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3. Der Beobac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4. Der Umsetz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5. Der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erfektionist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kümmert sich um die Detai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usarbeitungen und Fristeinhaltung. Findet Fehler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Versäumn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252360" y="1843920"/>
            <a:ext cx="964872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Der Erf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Der K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Der Beobac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Der Umse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Der Perfektion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. De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tzwerk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indet Quellen außerhalb des Team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ümmert sich um nützliche Konta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252360" y="1843920"/>
            <a:ext cx="96487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Der Erf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Der K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Der Beobac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Der Umse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Der Perfektion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. Der Netzwer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. De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ch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mt die Teamaktivitäten, Diskussionen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rgebnisse. Arbeitet gut unter Dru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252360" y="1843920"/>
            <a:ext cx="96487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Der Erf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Der K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Der Beobach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Der Umse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Der Perfektion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. Der Netzwer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. Der M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. De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amarbeit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kümmert sich um schwäc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tglieder oder Neue und sorgt für „positive Energie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252360" y="1843560"/>
            <a:ext cx="9648720" cy="49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Der Erf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Der K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Der Beobach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Der Umse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Der Perfektion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. Der Netzwer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. Der M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. Der Team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. De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peziali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stellt dem Team pflichtbewusst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lbständig sein Wissen und seine Fähigkeiten zur Verfü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3560"/>
            <a:ext cx="806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macht Teams erfolgreich und effiz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2339640"/>
            <a:ext cx="91440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Klares Ziel / Sinnvolle Arbeit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5. Offene Kommunikationskultur sch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elbstbestimmten Weg zum Ziel zulassen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6. Team-Konflikte lö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hasen der Teamentwicklung managen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7. Heterogenität för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geln implement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. Balance zwischen harten und weichen Faktoren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Harte Teamfaktore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Zielvereinbarung; leistungsorientierte Vergütu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ystematisierung der Zusammen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iel: Leistung kanalis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Weiche Teamfaktore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Zusammenhalt; Kooperation;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iel: Harmonie im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2339640"/>
            <a:ext cx="91440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Klares Ziel / Sinnvolle Arbeit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5. Offene Kommunikationskultur sch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Selbstbestimmten Weg zum Ziel zulassen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6. Team-Konflikte lö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Phasen der Teamentwicklung managen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7. Heterogenität för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Regeln implementieren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8. Balance harte/weichen Faktoren fi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9. Gegenseitige Anfeuerung / Begeisterung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ob, ob aktiv oder passiv, muß immer echt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onzentration auf Richtiges (Coach), nicht auf Falsches (Poliz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ombination von teambezogener und individueller Leistungsbewer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zw. Leistungsbelo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2229120"/>
            <a:ext cx="914400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Klares Ziel / Sinnvolle Arbeit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5. Offene Kommunikationskultur sch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elbstbestimmten Weg zum Ziel zulassen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6. Team-Konflikte lö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hasen der Teamentwicklung managen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7. Heterogenität för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geln implementieren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8. Balance harte/weichen Faktoren fi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9. Gegenseitige Anfeuerung / Begeist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. Systematische Vorgehensweise sic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tscheidungen im Team systematisch ange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Meinungsbildung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ls kreativer Findung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Entscheidungsfindung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ei Vorlage aller notwendigen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81080" y="1123560"/>
            <a:ext cx="9144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 Schritte zur Steigerung des Team-Erfol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248920"/>
            <a:ext cx="914400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lares Ziel / Sinnvolle 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lbstbestimmten Weg zum Ziel zu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asen der Teamentwicklung man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eln implem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ffene Kommunikationskultu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-Konflikte l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terogenität för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 zwischen harten und weichen Faktoren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genseitige Anfeuerung/Begeisterung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ystematische Vorgehensweise sicherstell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2057760"/>
            <a:ext cx="842472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Was macht Teams erfolgreich und effiz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Teamleiter („der Fisch fängt am Kopf zu stinken a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edes einzelne Teammitg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Rahmenbedingungen und verfügbare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873440"/>
            <a:ext cx="842472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2. Was sind die wesentlichen Aufgaben des Teamleiters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Trainers / Projektlei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Ziele definieren und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ie Teammitglieder aussuchen und fü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Sinnvollen Ablaufplan (Meilensteine) 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en Teambildungsprozess mode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ie Arbeit des Teams populär 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Jedem Gruppenmitglied ein Gefühl der Wichtigkei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en Zusammenhalt der Gruppe organis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geln und Rituale einführen und nach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873440"/>
            <a:ext cx="8280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84240" indent="-8424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3. In welchen Phasen stellt sich erfolgre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eamarbeit e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lares Ziel / Sinnvolle 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lbstbestimmten Weg zum Ziel zu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asen der Teamentwicklung man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eln implem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ffene Kommunikationskultur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-Konflikte l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terogenität för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 zwischen harten und weichen Faktoren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genseitige Anfeuerung/Begeisterung 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buClr>
                <a:srgbClr val="333399"/>
              </a:buClr>
              <a:buFont typeface="Arial"/>
              <a:buChar char="•"/>
              <a:tabLst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ystematische Vorgehensweise sic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033280"/>
            <a:ext cx="835164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4. Welche Anforderungen müssen die Teammitglie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rfü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erantwortung üb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s-Wissen aneignen und permanent auffr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uerhaftigkeit in den Arbeitsproz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eine übertriebene Selbstdarstel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igen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altblütig“ sein; im richtigen Moment zusch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gene „Rolle“ zum Wohl der Anderen sp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055960"/>
            <a:ext cx="8280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5. Wie lauten die wichtigsten Regeln der Teamarb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geln müssen Sinn 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Fehler dürfen gemacht werden (aber nicht zweimal der gleiche Feh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rmessensspielraum nu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issachtung der Regeln muß Strafe nach sich z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uch ungeschriebene Gesetze sind wichtige 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203560"/>
            <a:ext cx="806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macht Teams erfolgreich und effiz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s sind die wesentlichen Aufgaben des Teamleiters 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iners / Projektlei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181080" y="69624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252360" y="1843560"/>
            <a:ext cx="964872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e richtige Kombination der typischen Teamrollen sichert den Erfolg! Man unterscheidet neun Team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Der Erf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Der K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Der Beobach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Der Umse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Der Perfektion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. Der Netzwer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. Der M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. Der Team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. Der Spezi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20254800">
            <a:off x="3561840" y="3458880"/>
            <a:ext cx="474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eder Charak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irgt auch Schwäch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-181080" y="107712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18844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der Teamtyp hat seine Schwä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rfind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ringt die schrägen Ideen ein, zeichnet sich durch unorthodoxes Denken a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nn nicht plan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gnoriert Nebensächlichkeit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onzentriert sich auf die eigenen Inter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181080" y="107712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203200"/>
            <a:ext cx="914400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der Teamtyp hat seine Schwä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oordinato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kontrolliert und organisiert die Teamaktivitäte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nn als manipulierend verstanden werden, neigt dazu, persönliche Aufgaben zu deleg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181080" y="107712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03200"/>
            <a:ext cx="914400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der Teamtyp hat seine Schwä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obacht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untersucht Ideen und Vorschläge auf ihre Machbarkeit und ihren Nutzen für die Ziele des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t wenig eigenen Antrieb und mangelnde Fähigkeit zur Inspiration des Teams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181080" y="107712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203200"/>
            <a:ext cx="9144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der Teamtyp hat seine Schwä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msetz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setzt die Konzepte und Pläne in praktikable Arbeitspläne um. Arbeitet diszipliniert und verlässl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t unflexibel und reagiert zögerlich auf neue Möglichkeiten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181080" y="107712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03200"/>
            <a:ext cx="9144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der Teamtyp hat seine Schwä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fektioni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kümmert sich um die Detailausarbeitungen und Fristeinhaltung. Findet Fehler und Versäumn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igt zu übertriebener Besorgnis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181080" y="107712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203200"/>
            <a:ext cx="914400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der Teamtyp hat seine Schwä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tzwerk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indet Quellen außerhalb des Teams, kümmert sich um nützliche Konta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t überoptimistisch, verliert nach der ersten Begeisterung leicht das Interesse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-181080" y="107712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200320"/>
            <a:ext cx="914400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der Teamtyp hat seine Schwä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ch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mt die Teamaktivitäten, Diskussionen und Ergebnisse. Arbeitet gut unter Dru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igt zu Provokationen, nimmt zu wenig Rücksicht auf die Gefühle der anderen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-181080" y="107712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205360"/>
            <a:ext cx="914400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der Teamtyp hat seine Schwä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amarbeite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kümmert sich um schwächere Mitglieder oder Neue und sorgt für „positive Energie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rkt in kritischen Situationen unentschlossen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355840"/>
            <a:ext cx="806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macht Teams erfolgreich und effiz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s sind die wesentlichen Aufgaben des Teamleiters 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iners / Projektlei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In welchen Phasen stellt sich erfolgreiche Teamarbeit 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181080" y="1077120"/>
            <a:ext cx="9144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am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77640"/>
            <a:ext cx="9144000" cy="40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539640" anchor="ctr">
            <a:spAutoFit/>
          </a:bodyPr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der Teamtyp hat seine Schwä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eziali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stellt dem Team pflichtbewusst und selbständig sein Wissen und seine Fähigkeiten zur Verfü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t nur in einem eng begrenzten Gebiet einsetzbar und konzentriert sich auf technisch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355840"/>
            <a:ext cx="806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macht Teams erfolgreich und effiz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s sind die wesentlichen Aufgaben des Teamleiters 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iners / Projektlei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In welchen Phasen stellt sich erfolgreiche Teamarbeit 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Welche Anforderungen müssen die Teammitglie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rfül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nner - Team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2355840"/>
            <a:ext cx="806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macht Teams erfolgreich und effiz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s sind die wesentlichen Aufgaben des Teamleiters 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iners / Projektlei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In welchen Phasen stellt sich erfolgreiche Teamarbeit ei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Welche Anforderungen müssen die Teammitglie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rfül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Wie lauten die wichtigsten Regeln der Teamarbei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Christoph</cp:lastModifiedBy>
  <dcterms:modified xsi:type="dcterms:W3CDTF">2006-06-21T13:59:34Z</dcterms:modified>
  <cp:revision>73</cp:revision>
  <dc:subject/>
  <dc:title>Folie 1</dc:title>
</cp:coreProperties>
</file>