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093080" y="260280"/>
            <a:ext cx="1619280" cy="111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381400"/>
            <a:ext cx="9144000" cy="26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Kosten senk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Rendite steige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468360" y="47160"/>
            <a:ext cx="91440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nanz-Kennziff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6000" y="2349360"/>
            <a:ext cx="8820000" cy="27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Umsatzrentabilität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=  Gewinn ÷ Umsatz x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Maßstab für die Auswirkungen v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                                           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Preisveränderungen und konjunkturell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                                           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Schwank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apitalumschlag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=  Umsatz ÷ investiertes K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Maßstab für die Geschwindigkeit des Warenumschl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-468360" y="47160"/>
            <a:ext cx="91440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nanz-Kennziff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6000" y="2349360"/>
            <a:ext cx="882000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turn on Investment  =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rgebnis einer Investition ÷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apitalbedarf einer Invest. x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Umsatzrentabilität x Kapitalumsch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ndite einer Investition; Beurteilung 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esamtinvestments für z.B. eine Ab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468360" y="47160"/>
            <a:ext cx="91440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nanz-Kennziff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6000" y="2349360"/>
            <a:ext cx="88200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ckungsbeitrag I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= Umsatzerlöse – variable Ko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B in % der Umsatzerlöse schaff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ergleichbarkeit zwischen unterschiedlic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odukten, Projekten, Kund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468360" y="47160"/>
            <a:ext cx="91440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nanz-Kennziff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6000" y="2349360"/>
            <a:ext cx="88200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ckungsbeitrag I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= Umsatzerlöse – variable Ko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B in % der Umsatzerlöse schaff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ergleichbarkeit zwischen unterschiedlic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odukten, Projekten, Kund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ckungsbeitrag II  =  Deckungsbeitrag I – fixe Ko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468360" y="47160"/>
            <a:ext cx="91440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nanz-Kennziff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6000" y="2349360"/>
            <a:ext cx="882000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gebots-Erfolgs-Quote  =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tätigter Vertragsabschluß ÷ Anzahl Angebote x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ffizienz-Indikator für Akzeptanz der Produkte und/oder Qualität d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ertriebsbemüh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468360" y="47160"/>
            <a:ext cx="91440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nanz-Kennziff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6000" y="2349360"/>
            <a:ext cx="8820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Liquidität 1. Grades  =  Liquide Mittel ÷ kurzfr. Verbindlichkeiten x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ollte eine möglichst kleine Kennziffer se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468360" y="47160"/>
            <a:ext cx="91440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nanz-Kennziff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6000" y="2349360"/>
            <a:ext cx="8820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Liquidität 1. Grades  =  Liquide Mittel ÷ kurzfr. Verbindlichkeiten x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ollte eine möglichst kleine Kennziffer se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Liquidität 2. Grades  =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(Liquide Mittel + Kurzfr. Forderungen) 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                                    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kurzfr. Verbindl. x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ollte größer als 100% se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468360" y="47160"/>
            <a:ext cx="91440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nanz-Kennziff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6000" y="2349360"/>
            <a:ext cx="8820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Liquidität 1. Grades  =  Liquide Mittel ÷ kurzfr. Verbindlichkeiten x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ollte eine möglichst kleine Kennziffer se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Liquidität 2. Grades  =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(Liquide Mittel + Kurzfr. Forderungen) 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                                    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kurzfr. Verbindl. x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ollte größer als 100% se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Liquidität 3. Grades  =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(Liquide Mittel + kurzfr. Ford. + Vorräte) 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                                    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kurzfr. Verbindl. x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ollte eine möglichst hohe Kennziffer se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-468360" y="47160"/>
            <a:ext cx="91440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nanz-Kennziff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6000" y="2349360"/>
            <a:ext cx="88200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Break-even-Point  =  Fixe Kosten ÷ Deckungsbeitrag I in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=  Fixe Kosten 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                              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(1 – Variable Kosten ÷ Umsatzerlö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Der BEP zeigt die Umsatzgröße an, bei der vo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                                          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Kostendeckung erreich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381400"/>
            <a:ext cx="9144000" cy="26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Kosten senk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Rendite steige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468360" y="47160"/>
            <a:ext cx="91440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nanz-Kennziff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6000" y="2349360"/>
            <a:ext cx="88200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Preis-Absatz-Funktion  =  Absatzveränderung be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                                      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Preissenkung/Preiserhö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Elastischer Markt: Je niedriger der Preis, des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öher der Absa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Unelastischer Markt: Der Preis hat kaum Einflu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auf den Absa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468360" y="47160"/>
            <a:ext cx="91440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Preisveränd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87280" y="2349360"/>
          <a:ext cx="7002720" cy="303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349360"/>
                    <a:ext cx="7002720" cy="30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16000" y="573408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Break-even-Point  =  Fixe Kosten ÷ Deckungsbeitrag I in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468360" y="47160"/>
            <a:ext cx="91440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Preisveränd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65320" y="2359080"/>
          <a:ext cx="7005600" cy="293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59080"/>
                    <a:ext cx="7005600" cy="29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16000" y="573408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Break-even-Point  =  Fixe Kosten ÷ Deckungsbeitrag I in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468360" y="47160"/>
            <a:ext cx="91440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Preisveränd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65320" y="2359080"/>
          <a:ext cx="7005600" cy="293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59080"/>
                    <a:ext cx="7005600" cy="29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16000" y="573408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Break-even-Point  =  Fixe Kosten ÷ Deckungsbeitrag I in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-468360" y="47160"/>
            <a:ext cx="91440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Preisveränd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165320" y="2359080"/>
          <a:ext cx="7005600" cy="293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59080"/>
                    <a:ext cx="7005600" cy="29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216000" y="573408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Break-even-Point  =  Fixe Kosten ÷ Deckungsbeitrag I in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3645000"/>
            <a:ext cx="64764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2565360"/>
            <a:ext cx="187164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-468360" y="47160"/>
            <a:ext cx="91440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Preisveränd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165320" y="2359080"/>
          <a:ext cx="7005600" cy="293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59080"/>
                    <a:ext cx="7005600" cy="29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3995640" y="2852640"/>
            <a:ext cx="86364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32000" y="4148280"/>
            <a:ext cx="187164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-468360" y="47160"/>
            <a:ext cx="91440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Preisveränd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65320" y="2359080"/>
          <a:ext cx="7005600" cy="293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59080"/>
                    <a:ext cx="7005600" cy="29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-468360" y="47160"/>
            <a:ext cx="91440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Preisveränd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165320" y="2359080"/>
          <a:ext cx="7005600" cy="293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59080"/>
                    <a:ext cx="7005600" cy="29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-468360" y="47160"/>
            <a:ext cx="91440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Preisveränd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165320" y="2359080"/>
          <a:ext cx="7005600" cy="293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59080"/>
                    <a:ext cx="7005600" cy="29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3637080" y="4437000"/>
            <a:ext cx="107928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4437000"/>
            <a:ext cx="107964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-468360" y="47160"/>
            <a:ext cx="91440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Preisveränd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165320" y="2359080"/>
          <a:ext cx="7005600" cy="293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59080"/>
                    <a:ext cx="7005600" cy="29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2347920"/>
            <a:ext cx="835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osten senken – Rendite steiger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-468360" y="47160"/>
            <a:ext cx="91440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Preisveränd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165320" y="2359080"/>
          <a:ext cx="7005600" cy="293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59080"/>
                    <a:ext cx="7005600" cy="29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-468360" y="47160"/>
            <a:ext cx="91440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Preisveränd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62080" y="2363760"/>
          <a:ext cx="7002360" cy="303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2363760"/>
                    <a:ext cx="700236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3637080" y="4508640"/>
            <a:ext cx="107928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77080" y="4508640"/>
            <a:ext cx="107964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-468360" y="47160"/>
            <a:ext cx="91440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Preisveränd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62080" y="2363760"/>
          <a:ext cx="7002360" cy="303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2363760"/>
                    <a:ext cx="700236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1170000" y="5535720"/>
            <a:ext cx="53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ixkosten und DB II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-468360" y="47160"/>
            <a:ext cx="91440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Preisveränd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62080" y="2363760"/>
          <a:ext cx="7002360" cy="303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2363760"/>
                    <a:ext cx="700236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1170000" y="5535720"/>
            <a:ext cx="53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ixkosten und DB II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52720" y="3357720"/>
            <a:ext cx="1224000" cy="433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08720" y="3357720"/>
            <a:ext cx="1224000" cy="433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164360" y="3357720"/>
            <a:ext cx="1224000" cy="433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484360" y="3860280"/>
            <a:ext cx="1511280" cy="18003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843280" y="3860280"/>
            <a:ext cx="2952720" cy="18003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276720" y="3860280"/>
            <a:ext cx="4103640" cy="18003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468360" y="47160"/>
            <a:ext cx="91440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Preisveränd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00000" y="2440080"/>
            <a:ext cx="734400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nnahme: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% Preiserhöhung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% Preissenk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0% Mengenrückgang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0% Mengensteig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ösung: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Was tu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-468360" y="47160"/>
            <a:ext cx="91440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Preisveränd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2440080"/>
            <a:ext cx="73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nnahme: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% Preiserhöhung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% Preissenk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0% Mengenrückgang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0% Mengensteig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eis: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4,40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3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enge: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1.000.000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1.5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-468360" y="47160"/>
            <a:ext cx="91440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Preisveränd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00000" y="2440080"/>
            <a:ext cx="73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Annahme: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10% Preiserhöh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10% Preissenk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20% Mengenrückga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20% Mengensteig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Preis: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4,40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            3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Menge: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          1.000.000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        1.5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Umsatz: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          4.400.000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         5.4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K var: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          2.400.000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         3.6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DB I: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           2.000.000 (45%)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          1.800.000 (33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-468360" y="47160"/>
            <a:ext cx="91440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Preisveränd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2440080"/>
            <a:ext cx="73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Annahme: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10% Preiserhöhu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10% Preissenk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20% Mengenrückgang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40% Mengensteig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Preis: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4,40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3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Menge: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          1.000.000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        1.75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Umsatz: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          4.400.000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         6.3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K var: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          2.400.000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         4.2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DB I: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          2.000.000 (45%)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         2.100.000 (33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K fix: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          1.500.000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                       1.5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DB II: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              500.000 (11,3%)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             600.000 (9,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468360" y="259920"/>
            <a:ext cx="914400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2308320"/>
            <a:ext cx="85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ethoden zur Kostensenk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Kostensenkung tut weh – wie jede Diät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esonders, wenn man selbst betroffen ist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195640"/>
            <a:ext cx="8351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ie können die Rendite gesteigert / die Kosten gesenkt 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osten senken – Rendite steiger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-468360" y="259920"/>
            <a:ext cx="914400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1413000"/>
            <a:ext cx="882000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1. Leerkosten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Ziel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o verstecken sich Leerzei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utzkosten? (Anfallende Kosten werden sinnvoll für die Produktion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ertrieb, Verwaltung genutz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eerkosten? (Nichtausgelastete Mitarbeiter, Maschinen, Ressourcen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ute Auslastung ist die beste Kostensenkungsmaßnah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Vorgehe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finition des Bereichs, der untersuch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ckdaten ermitteln (Auslastungen, Kosten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ozentuale Größenordnung der Leerkosten ausfindig ma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Kostenmäßige Bewertung der nicht genutzten Kapazitä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er trägt die Leerkosten? (Leerkosten sind Gewinnfres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-468360" y="259920"/>
            <a:ext cx="914400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1413000"/>
            <a:ext cx="856908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2. ABC-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Ziel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ioritäten bei der Kostensenkung se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Vorgehe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rmittlung des zukünftigen Bedarfs an Material, Zeit, Ressourc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ufstellen der Kosten für diesen Bedarf, den Wert der 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n bildet prozentuale Anteile der Einzelwerte im Verhältnis zum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esamt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-Artikel werden zuerst angega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-468360" y="259920"/>
            <a:ext cx="914400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1413000"/>
            <a:ext cx="856908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Arial"/>
              </a:rPr>
              <a:t>3. Wertanalysen („add value or don´t do it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Ziel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Was ist der Nutzen für den Kunden/Empfänger?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Die geplante Leistung/Funktion mit weniger Kosten erbrin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Sind die Leistungen/Funktionen überhaupt notwend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Vorgehen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Ermittlung des Ist-Zustandes (Aufteilung in Haupt- und Nebenfunktion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Ermittlung des Sollzustandes (Überflüssige Funktionen feststel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Entwicklung von Alternativen (Ermittlung und Gewichtung der Kosten des So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Auswahl der optimalen Alternative (Kostengünstigste Lösung bei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Sicherstellung des gewünschten Wer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-468360" y="259920"/>
            <a:ext cx="914400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1413000"/>
            <a:ext cx="85690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4. Zero Base Budg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Ziel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Lösen vom Istzustand und vorurteilsfreie Neubewe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Bewusstes Ignorieren von bestehenden Strukt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Keine Rechtfertigung bestehender Fun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Cut-off-point: Spitze der Kosten abschneiden (auf was kann als erstes verzichtet werden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Vorgehen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Auflisten aller wirklich notwendigen Tätigkeiten (inkl. Häufigkeit u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Dau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Bezugsgrößen für die Tätigkeiten finden (Stunden, Anzahl Gespräch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Fläche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Ermittlung der Kosten für jede Bezugsgröß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Vergleich Zero Base und Ist-Zu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Ursachensuche bei Abweich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-468360" y="259920"/>
            <a:ext cx="914400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1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1413000"/>
            <a:ext cx="856908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5. Schwachstellen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Ziel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itarbeiter nach Schwachstellen befragen (Leerläufe, Leerzeiten, Mängel, Fehler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Vorge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ragebogen verteilen und ausw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rdnen – gewichten – bew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alisierung und Feed-back 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-468360" y="259920"/>
            <a:ext cx="914400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" y="1413000"/>
            <a:ext cx="856908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6. Deckungsbeitragsanaly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Prüfung des Leistungsangeb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Ziel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erausfinden der Gewinnbringer, Aufstellen von Renner-/Penner-Li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Vorgehen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Aufstellung der Umsatz- und Absatzzahlen je Artikel (Ist- oder Planda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Ermittlung der variablen Kosten je Stü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Feststellen, ob DB I positiv oder negativ ausfä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Prozentuale DB´s verschiedener Artikel vergleichen und in Rangli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bri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-468360" y="259920"/>
            <a:ext cx="914400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1413000"/>
            <a:ext cx="856908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7. Target Costing (Zielkostenrechn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Ziel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Was darf das Produkt kos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Was sind die Funktionen eines Produkts, die der Kunde wünsc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Vorge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Strategische Festlegung des Zielmark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Zielkosten festlegen (nach Abzug der Gewinnspan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market into company“; „out of company and out of optimal costs“; “out of competi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Zielkostenspaltung (Kosten der einzelnen Funktionen des Produk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festleg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Prüfung der Realisierbar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-468360" y="259920"/>
            <a:ext cx="914400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4000" y="1413000"/>
            <a:ext cx="856908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8. Life-Cycle-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Ziel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Kalkulation des kompletten Lebenszyklus eines Produk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Die Investitionen von heute sind die Kosten von morge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Vorge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Aufstellung aller Einnahmen / Ausgaben während des Lebenszyk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Kalkulation des Entwicklungs-Zyk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Kalkulation des Markt-Zyk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Kalkulation des Nachsorge-Zyk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-468360" y="259920"/>
            <a:ext cx="914400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1413000"/>
            <a:ext cx="85690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9. Absatzsteigerung / Fixkostend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Ziel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Elastizität der Preis-/Absatzfunktion ermitt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Mengensteigerung führt zwangsläufig zur Senkung der Stückko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Problem: Sind Absatzsteigerungen im Markt (ohne Preisnachläss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durchsetzb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Vorgehen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Abschätzung der Preis-Absatz-Abhäng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Elastischer Markt: Je niedriger der Preis, desto höher der Absat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(lineare Abhängigke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Elastischer Markt: Kleinste Preisveränderungen haben enormen Einfluss auf Absät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Unelastischer Markt: Der Preis hat kaum Einfluss auf den Absa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Errechnung der Absatz- und Umsatzverän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DB II -Vergleich mit/ohne Preisveränderung an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-468360" y="259920"/>
            <a:ext cx="914400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osten senken - Rendite stei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1413000"/>
            <a:ext cx="8569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10. Outsou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Ziel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Senkung der fixen Ko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2195640"/>
            <a:ext cx="8351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ie können die Rendite gesteigert / die Kosten gesenkt 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odurch entsteht im Unternehmen Wertschöpfu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osten senken – Rendite steiger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8360" y="1961280"/>
            <a:ext cx="83516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1. Wie können die Rendite gesteigert / die Kosten gesenkt we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entrale Erfolgsfaktoren erkennen und ausbau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ttraktivität der Produkte erhalte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„junge, neue Produkte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enner elimin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lexibilität steiger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Fixkosten in variable Kosten umwandel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meinkosten transparent ma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osten senken – Rendite steiger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8360" y="1962000"/>
            <a:ext cx="835164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333399"/>
                </a:solidFill>
                <a:uFillTx/>
                <a:latin typeface="Arial"/>
              </a:rPr>
              <a:t>2. Wodurch entsteht im Unternehmen Wertschöpfu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onzentration auf eigenes Wertschöpfungsmo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Zentrale Werttreiber identifiz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Wesentliche Wertgrößen (key performance indicators) erke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Möglichkeiten des Outsourcing prü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osten senken – Rendite steiger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1961280"/>
            <a:ext cx="835164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3. Welche Kennzahlen helfen, Finanzkrisen frühzeitig zu erkennen und zu vermei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rühindikatoren als Warnsystem install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gebots-Erfolgs-Quote; Deckungsbeitrag; Auslastungsgrad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pätindikatoren als Basis für zukünftige Maßna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onzept der kontinuierlichen Verbess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osten senken – Rendite steiger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1960560"/>
            <a:ext cx="83516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333399"/>
                </a:solidFill>
                <a:uFillTx/>
                <a:latin typeface="Arial"/>
              </a:rPr>
              <a:t>4. Welche Methoden sind zur Kostensenkung und/oder Renditesteigerung geeign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Leerkosten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ABC-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Wertanaly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Zero Base Budg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Schwachstellen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Deckungsbeitrags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Absatzsteigerung/Fixkostend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Target 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osten senken – Rendite steiger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1960920"/>
            <a:ext cx="83516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5. Wie werden Verkaufs-/Verrechnungspreise richtig kalkulie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osten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unden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ettbewerbs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andels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rtfoliometh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osten senken – Rendite steiger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2195640"/>
            <a:ext cx="8351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ie können die Rendite gesteigert / die Kosten gesenkt 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odurch entsteht im Unternehmen Wertschöpfu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elche Kennzahlen helfen, Finanzkrisen frühzeitig zu erkennen und damit zu vermei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osten senken – Rendite steiger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2195640"/>
            <a:ext cx="8351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ie können die Rendite gesteigert / die Kosten gesenkt 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odurch entsteht im Unternehmen Wertschöpfu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elche Kennzahlen helfen, Finanzkrisen frühzeitig zu erkennen und damit zu vermei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elche Methoden sind zur Kostensenkung und/oder Renditesteigerung geeign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osten senken – Rendite steiger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195640"/>
            <a:ext cx="8351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ie können die Rendite gesteigert / die Kosten gesenkt 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odurch entsteht im Unternehmen Wertschöpfu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elche Kennzahlen helfen, Finanzkrisen frühzeitig zu erkennen und damit zu vermei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elche Methoden sind zur Kostensenkung und/oder Renditesteigerung geeign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ie werden Verkaufs-/Verrechnungspreise richtig kalkulie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81080" y="9550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osten senken – Rendite steiger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5:36:04Z</dcterms:created>
  <dc:creator>Admin</dc:creator>
  <dc:description/>
  <dc:language>en-US</dc:language>
  <cp:lastModifiedBy>Ronald</cp:lastModifiedBy>
  <dcterms:modified xsi:type="dcterms:W3CDTF">2008-05-06T09:33:25Z</dcterms:modified>
  <cp:revision>55</cp:revision>
  <dc:subject/>
  <dc:title>Folie 1</dc:title>
</cp:coreProperties>
</file>