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93080" y="260280"/>
            <a:ext cx="161928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2362320"/>
            <a:ext cx="78483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irigierendes Verhal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kturieren und kontrollieren (autokratische Führ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kundierendes Verhal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erkennen, zuhören und fördern (demokratische Führ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362320"/>
            <a:ext cx="78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irigierendes Verhal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kturieren und kontrollieren (autokratische Führ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enke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Der Vorgesetzte gibt präzise Anweisungen u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aufsichtigt gewissenhaft die Durchführ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2362320"/>
            <a:ext cx="7848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irigierendes Verhal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kturieren und kontrollieren (autokratische Führ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enke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Der Vorgesetzte gibt präzise Anweisungen u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aufsichtigt gewissenhaft die Durchführ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Aufga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leite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Der Vorgesetzte lenkt und überwacht auch weiterh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wissenhaft die Durchführung der Aufgab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espricht aber seine Entscheidungen mit 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tarbeitern, bittet sie um Vorschläge und unterstütz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hre Fortschr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2362320"/>
            <a:ext cx="784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kundierendes Verhal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erkennen, zuhören und fördern (demokratische Führ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terstütze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Der Vorgesetzte fördert und unterstützt 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tarbeiter bei der Durchführung der Aufga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d teilt die Verantwortung für die zu fällen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tscheidungen mit ih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2362320"/>
            <a:ext cx="784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kundierendes Verhal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erkennen, zuhören und fördern (demokratische Führ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terstütze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Der Vorgesetzte fördert und unterstützt 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tarbeiter bei der Durchführung der Aufga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d teilt die Verantwortung für die zu fällen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tscheidungen mit ih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elegiere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Der Vorgesetzte überträgt den Mitarbeitern d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rantwortung für die zu fällen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tscheidungen und die zu lösenden Probl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060640"/>
            <a:ext cx="78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Dirigierendes Verhal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trukturieren und kontrollieren (autokratische Führ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enk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leit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ekundierendes Verhalt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Anerkennen, zuhören und fördern (demokratische Führ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terstütz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elegier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21859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2185920"/>
            <a:ext cx="784836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1. Flexibilität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 Verschiedene Führungsstile flexibel hand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2185920"/>
            <a:ext cx="82087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2. Diagnos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 Bedürfnisse der Mitarbeiter diagnostiz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2185920"/>
            <a:ext cx="82087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2. Diagnos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 Bedürfnisse der Mitarbeiter diagnostiz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as entscheidet über Leistung und Können eines Mitarbei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69920"/>
            <a:ext cx="914400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er Schlüssel erfolgreicher Mitarbeiterführu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2185920"/>
            <a:ext cx="82087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2. Diagnos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 Bedürfnisse der Mitarbeiter diagnostiz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Was entscheidet über Leistung und Können eines Mitarbeit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ompetenz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(Kenntnisse und Fertigkeiten)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gagement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(Selbstvertrauen und Motiv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84720" y="5732640"/>
            <a:ext cx="215928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2185920"/>
            <a:ext cx="82087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2. Diagnos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 Die Entwicklungsstufen von Mitarbei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Wenig 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ohes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twickelt                                                                                   Entwicklungsfäh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195640" y="6669000"/>
            <a:ext cx="37447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84720" y="5732640"/>
            <a:ext cx="215928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7800" y="5013360"/>
            <a:ext cx="215892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2185920"/>
            <a:ext cx="82087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2. Diagnos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 Die Entwicklungsstufen von Mitarbei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Einige 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Wenig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Wenig 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ohes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twickelt                                                                                   Entwicklungsfäh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666480" y="5077440"/>
            <a:ext cx="432000" cy="446040"/>
          </a:xfrm>
          <a:custGeom>
            <a:avLst/>
            <a:gdLst>
              <a:gd name="textAreaLeft" fmla="*/ 144000 w 432000"/>
              <a:gd name="textAreaRight" fmla="*/ 370080 w 432000"/>
              <a:gd name="textAreaTop" fmla="*/ 257040 h 446040"/>
              <a:gd name="textAreaBottom" fmla="*/ 382320 h 446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195640" y="6669000"/>
            <a:ext cx="37447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84720" y="5732640"/>
            <a:ext cx="215928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7800" y="5013360"/>
            <a:ext cx="215892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4292640"/>
            <a:ext cx="302256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185920"/>
            <a:ext cx="82087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2. Diagnos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 Die Entwicklungsstufen von Mitarbei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ohe 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chwankendes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Einige 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Wenig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Wenig 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ohes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twickelt                                                                                   Entwicklungsfäh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5586840" y="4429800"/>
            <a:ext cx="432000" cy="446040"/>
          </a:xfrm>
          <a:custGeom>
            <a:avLst/>
            <a:gdLst>
              <a:gd name="textAreaLeft" fmla="*/ 144000 w 432000"/>
              <a:gd name="textAreaRight" fmla="*/ 370080 w 432000"/>
              <a:gd name="textAreaTop" fmla="*/ 257040 h 446040"/>
              <a:gd name="textAreaBottom" fmla="*/ 382320 h 446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6666480" y="5077440"/>
            <a:ext cx="432000" cy="446040"/>
          </a:xfrm>
          <a:custGeom>
            <a:avLst/>
            <a:gdLst>
              <a:gd name="textAreaLeft" fmla="*/ 144000 w 432000"/>
              <a:gd name="textAreaRight" fmla="*/ 370080 w 432000"/>
              <a:gd name="textAreaTop" fmla="*/ 257040 h 446040"/>
              <a:gd name="textAreaBottom" fmla="*/ 382320 h 446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195640" y="6669000"/>
            <a:ext cx="37447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84720" y="5732640"/>
            <a:ext cx="2159280" cy="576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7800" y="5013360"/>
            <a:ext cx="215892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4292640"/>
            <a:ext cx="302256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3573360"/>
            <a:ext cx="215892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684360" y="98028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205000"/>
            <a:ext cx="82087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2. Diagnos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 Die Entwicklungsstufen von Mitarbei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ohe 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ohes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ohe 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chwankendes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Einige 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Wenig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Wenig Kompet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ohes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twickelt                                                                                   Entwicklungsfäh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2909160" y="3710520"/>
            <a:ext cx="431640" cy="446040"/>
          </a:xfrm>
          <a:custGeom>
            <a:avLst/>
            <a:gdLst>
              <a:gd name="textAreaLeft" fmla="*/ 144000 w 431640"/>
              <a:gd name="textAreaRight" fmla="*/ 369720 w 431640"/>
              <a:gd name="textAreaTop" fmla="*/ 257040 h 446040"/>
              <a:gd name="textAreaBottom" fmla="*/ 382320 h 446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5586840" y="4429800"/>
            <a:ext cx="432000" cy="446040"/>
          </a:xfrm>
          <a:custGeom>
            <a:avLst/>
            <a:gdLst>
              <a:gd name="textAreaLeft" fmla="*/ 144000 w 432000"/>
              <a:gd name="textAreaRight" fmla="*/ 370080 w 432000"/>
              <a:gd name="textAreaTop" fmla="*/ 257040 h 446040"/>
              <a:gd name="textAreaBottom" fmla="*/ 382320 h 446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6666480" y="5077440"/>
            <a:ext cx="432000" cy="446040"/>
          </a:xfrm>
          <a:custGeom>
            <a:avLst/>
            <a:gdLst>
              <a:gd name="textAreaLeft" fmla="*/ 144000 w 432000"/>
              <a:gd name="textAreaRight" fmla="*/ 370080 w 432000"/>
              <a:gd name="textAreaTop" fmla="*/ 257040 h 446040"/>
              <a:gd name="textAreaBottom" fmla="*/ 382320 h 446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95640" y="6669000"/>
            <a:ext cx="37447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218592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3. Absprach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 Lernen, sich mit den Mitarbeitern zu ein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185920"/>
            <a:ext cx="82087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3. Absprach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 Lernen, sich mit den Mitarbeitern zu ein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istungsvorga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185920"/>
            <a:ext cx="82087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3. Absprach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 Lernen, sich mit den Mitarbeitern zu ein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istungsvorga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tägliches Anleiten und Ber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2185920"/>
            <a:ext cx="82087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3. Absprache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: Lernen, sich mit den Mitarbeitern zu ein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istungsvorga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tägliches Anleiten und Ber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istungsbewe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684360" y="986760"/>
            <a:ext cx="91440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ie vier fundamentalen Führungss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2185920"/>
            <a:ext cx="7848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Lösung: Situationsbedingte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1. Flexibilität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Verschiedene Führungsstile flexibel handha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2. Diagnose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edürfnisse der Mitarbeiter diagnostiz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3. Absprache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ernen, sich mit den Mitarbeitern zu ein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68436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133720"/>
            <a:ext cx="784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elcher der möglichen Führungsstile ist der Wirksams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68436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481120"/>
            <a:ext cx="7775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1. Welcher der möglichen Führungsstile ist der Wirksams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e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ituationsbedingte Führung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einem Mix 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nken/Dirig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leiten/Train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nterstü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leg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68436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481120"/>
            <a:ext cx="741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2. Welche Energiepotenziale braucht man als Vorgesetz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hysische Energie (Führen durch überlegene Stär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motionale Energie (Führen durch Nä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tellektuelle Energie (Führen durch geistige Überlegenhei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pirituelle Energie (Führen durch Vertrau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-68436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2481120"/>
            <a:ext cx="7848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3. Warum ist Delegation bei der Mitarbeiterführung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öchste Form der demokratischen, partnerschaftlichen Führ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ührungskraft: Zeitgewinn und Selbstentlas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20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tarbeiter: Personalentwicklung und Kompetenzerweit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-68436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2481120"/>
            <a:ext cx="741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4. Welche Herausforderungen sind bei der Mitarbeiterführung zu bewälti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Verpflichtung: Jeden sich selbst näherbr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Fehler: Unterforderung der Mitarb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Verabredete Leistung einforder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Leistung muss gebracht wer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Pflicht: Das tun, was man von anderen erwar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Kündigen: Nicht ob, sondern wie (Versetzen od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helf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Mitarbeiter vor Angst schüt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Mut und Zivilcourage zei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us Mangelhaftem das Beste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68436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481120"/>
            <a:ext cx="741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5. Warum ist das Mitarbeitergespräch ein wichtiges Führungsinstru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urnusgespräche (1 x pro Monat)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Jahresgespräch = Fortschrittsdi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ufbau zwischenmenschlicher Bezieh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n anderen verstehen und selbst verstanden zu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rtschätzung transport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EINE Sonderrech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n Mitarbeiter die Lösung finden lassen (WS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iel: Einvernehmliche Regelung oder gemeins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rabre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68436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133720"/>
            <a:ext cx="784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elcher der möglichen Führungsstile ist der Wirksams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elche Energiepotentiale braucht man als Vorgesetz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68436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133720"/>
            <a:ext cx="784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elcher der möglichen Führungsstile ist der Wirksams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elche Energiepotentiale braucht man als Vorgesetz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Warum ist Delegation bei der Mitarbeiterführung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68436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133720"/>
            <a:ext cx="7848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elcher der möglichen Führungsstile ist der Wirksams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elche Energiepotentiale braucht man als Vorgesetz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Warum ist Delegation bei der Mitarbeiterführung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Welche Herausforderungen sind bei der Mitarbeiterführung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u bewälti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684360" y="10170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Schlüssel erfolgreicher Mitarbeiterführ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133720"/>
            <a:ext cx="784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elcher der möglichen Führungsstile ist der Wirksams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elche Energiepotentiale braucht man als Vorgesetz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Warum ist Delegation bei der Mitarbeiterführung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Welche Herausforderungen sind bei der Mitarbeiterführung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u bewälti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Warum ist das Mitarbeitergespräch ein wichti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ührungsinstru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69920"/>
            <a:ext cx="914400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er Schlüssel erfolgreicher Mitarbeiterführu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36:04Z</dcterms:created>
  <dc:creator>Admin</dc:creator>
  <dc:description/>
  <dc:language>en-US</dc:language>
  <cp:lastModifiedBy>Prof. Christoph Ewert</cp:lastModifiedBy>
  <dcterms:modified xsi:type="dcterms:W3CDTF">2007-04-26T19:44:01Z</dcterms:modified>
  <cp:revision>53</cp:revision>
  <dc:subject/>
  <dc:title>Folie 1</dc:title>
</cp:coreProperties>
</file>