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093080" y="260280"/>
            <a:ext cx="1619280" cy="111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12760" y="495360"/>
            <a:ext cx="690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um Führungskräfte oft versage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sche Portfolio-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124000" y="213336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602136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24000" y="256536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12000" y="2565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95640" y="2565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24000" y="414972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39440" y="611352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r Marktant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6160" y="205416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twachs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6920" y="488304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322596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72880" y="617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12760" y="495360"/>
            <a:ext cx="690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um Führungskräfte oft versage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sche Portfolio-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24000" y="213336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602136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24000" y="256536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2565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95640" y="2565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24000" y="414972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39440" y="611352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r Marktant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6160" y="205416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twachs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86920" y="488304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87280" y="322596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72880" y="617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47280" y="4869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or 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8880" y="48625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sh C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7800" y="3141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stion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3440" y="31417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12760" y="495360"/>
            <a:ext cx="690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um Führungskräfte oft versage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sche Portfolio-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24000" y="213336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602136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256536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2565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5640" y="2565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24000" y="414972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39440" y="611352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r Marktant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6160" y="205416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twachs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6920" y="488304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322596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72880" y="617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47280" y="4869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or 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58880" y="48625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sh C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7800" y="3141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stion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3440" y="31417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403280" y="5300640"/>
            <a:ext cx="1440000" cy="504720"/>
          </a:xfrm>
          <a:prstGeom prst="line">
            <a:avLst/>
          </a:prstGeom>
          <a:ln w="120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112760" y="495360"/>
            <a:ext cx="690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um Führungskräfte oft versage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sche Portfolio-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124000" y="213336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602136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256536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2000" y="2565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2565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414972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39440" y="611352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r Marktant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6160" y="205416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twachs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6920" y="488304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22596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72880" y="617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47280" y="4869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or 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8880" y="48625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sh C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97800" y="3141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stion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3440" y="31417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403280" y="5300640"/>
            <a:ext cx="1440000" cy="504720"/>
          </a:xfrm>
          <a:prstGeom prst="line">
            <a:avLst/>
          </a:prstGeom>
          <a:ln w="120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6000" y="5084640"/>
            <a:ext cx="1440000" cy="0"/>
          </a:xfrm>
          <a:prstGeom prst="line">
            <a:avLst/>
          </a:prstGeom>
          <a:ln w="120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12760" y="495360"/>
            <a:ext cx="690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um Führungskräfte oft versage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sche Portfolio-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124000" y="213336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602136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24000" y="256536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12000" y="2565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95640" y="2565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24000" y="414972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39440" y="611352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r Marktant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6160" y="205416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twachs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6920" y="488304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322596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72880" y="617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47280" y="4869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or 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58880" y="48625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sh C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97800" y="3141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stion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3440" y="31417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403280" y="5300640"/>
            <a:ext cx="1440000" cy="504720"/>
          </a:xfrm>
          <a:prstGeom prst="line">
            <a:avLst/>
          </a:prstGeom>
          <a:ln w="120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5084640"/>
            <a:ext cx="1440000" cy="0"/>
          </a:xfrm>
          <a:prstGeom prst="line">
            <a:avLst/>
          </a:prstGeom>
          <a:ln w="120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1210000">
            <a:off x="3343320" y="2708280"/>
            <a:ext cx="1660320" cy="291960"/>
          </a:xfrm>
          <a:custGeom>
            <a:avLst/>
            <a:gdLst>
              <a:gd name="textAreaLeft" fmla="*/ 290520 w 1660320"/>
              <a:gd name="textAreaRight" fmla="*/ 1203840 w 1660320"/>
              <a:gd name="textAreaTop" fmla="*/ 38880 h 291960"/>
              <a:gd name="textAreaBottom" fmla="*/ 253080 h 291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1051830"/>
                <a:lnTo>
                  <a:pt x="19105" y="5565"/>
                </a:lnTo>
                <a:lnTo>
                  <a:pt x="17280" y="21600"/>
                </a:lnTo>
                <a:lnTo>
                  <a:pt x="10465" y="5565"/>
                </a:lnTo>
                <a:lnTo>
                  <a:pt x="12625" y="5565"/>
                </a:lnTo>
                <a:arcTo wR="7560" hR="21600" stAng="-4348170" swAng="-694395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112760" y="495360"/>
            <a:ext cx="690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um Führungskräfte oft versage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sche Portfolio-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124000" y="213336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24000" y="602136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24000" y="256536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2565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95640" y="2565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414972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39440" y="611352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r Marktant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6160" y="205416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twachs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86920" y="488304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87280" y="322596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72880" y="617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47280" y="4869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or 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58880" y="48625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sh C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7800" y="3141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stion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3440" y="31417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403280" y="5300640"/>
            <a:ext cx="1440000" cy="504720"/>
          </a:xfrm>
          <a:prstGeom prst="line">
            <a:avLst/>
          </a:prstGeom>
          <a:ln w="120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084640"/>
            <a:ext cx="1440000" cy="0"/>
          </a:xfrm>
          <a:prstGeom prst="line">
            <a:avLst/>
          </a:prstGeom>
          <a:ln w="120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1210000">
            <a:off x="3343320" y="2708280"/>
            <a:ext cx="1660320" cy="291960"/>
          </a:xfrm>
          <a:custGeom>
            <a:avLst/>
            <a:gdLst>
              <a:gd name="textAreaLeft" fmla="*/ 290520 w 1660320"/>
              <a:gd name="textAreaRight" fmla="*/ 1203840 w 1660320"/>
              <a:gd name="textAreaTop" fmla="*/ 38880 h 291960"/>
              <a:gd name="textAreaBottom" fmla="*/ 253080 h 291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1051830"/>
                <a:lnTo>
                  <a:pt x="19105" y="5565"/>
                </a:lnTo>
                <a:lnTo>
                  <a:pt x="17280" y="21600"/>
                </a:lnTo>
                <a:lnTo>
                  <a:pt x="10465" y="5565"/>
                </a:lnTo>
                <a:lnTo>
                  <a:pt x="12625" y="5565"/>
                </a:lnTo>
                <a:arcTo wR="7560" hR="21600" stAng="-4348170" swAng="-694395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364000" y="2565000"/>
            <a:ext cx="1295640" cy="647640"/>
          </a:xfrm>
          <a:prstGeom prst="line">
            <a:avLst/>
          </a:prstGeom>
          <a:ln w="120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112760" y="495360"/>
            <a:ext cx="690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um Führungskräfte oft versage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sche Portfolio-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124000" y="213336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24000" y="602136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24000" y="256536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2565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5640" y="2565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24000" y="414972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39440" y="611352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r Marktant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6160" y="205416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twachs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6920" y="488304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322596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72880" y="617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47280" y="4869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or 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58880" y="48625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sh C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97800" y="3141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stion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3440" y="31417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842920" y="4221000"/>
            <a:ext cx="1081080" cy="1079640"/>
          </a:xfrm>
          <a:prstGeom prst="line">
            <a:avLst/>
          </a:prstGeom>
          <a:ln w="120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995640" y="3141720"/>
            <a:ext cx="1008000" cy="1008000"/>
          </a:xfrm>
          <a:prstGeom prst="line">
            <a:avLst/>
          </a:prstGeom>
          <a:ln w="120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24000" y="2565360"/>
            <a:ext cx="3888000" cy="3456000"/>
          </a:xfrm>
          <a:prstGeom prst="line">
            <a:avLst/>
          </a:prstGeom>
          <a:ln w="73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112760" y="495360"/>
            <a:ext cx="690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um Führungskräfte oft versage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ziehungs-Portfolio-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124000" y="213336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24000" y="602136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24000" y="256536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12000" y="2565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95640" y="2565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24000" y="414972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37640" y="613728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uer der Bezieh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0280" y="208440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ve Bedeu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6920" y="488304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322596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34560" y="62373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Jah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112760" y="495360"/>
            <a:ext cx="690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um Führungskräfte oft versage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ziehungs-Portfolio-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124000" y="213336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602136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24000" y="256536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12000" y="2565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95640" y="2565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24000" y="414972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37640" y="613728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uer der Bezieh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0000" y="207792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ve Bedeu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86920" y="488304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322596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34560" y="62373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Jah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47280" y="4869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a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60" y="5084280"/>
            <a:ext cx="91440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Der Führungsmana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28760" y="1109520"/>
            <a:ext cx="677232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112760" y="495360"/>
            <a:ext cx="690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um Führungskräfte oft versage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ziehungs-Portfolio-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124000" y="213336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24000" y="602136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24000" y="256536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12000" y="2565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95640" y="2565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414972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37640" y="613728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uer der Bezieh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000" y="207792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ve Bedeu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86920" y="488304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7280" y="322596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634560" y="62373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Jah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47280" y="4869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a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90560" y="4869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kan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112760" y="495360"/>
            <a:ext cx="690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um Führungskräfte oft versage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ziehungs-Portfolio-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124000" y="213336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24000" y="602136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24000" y="256536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12000" y="2565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95640" y="2565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24000" y="414972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37640" y="613728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uer der Bezieh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0000" y="207792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ve Bedeu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86920" y="488304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87280" y="322596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34560" y="62373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Jah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47280" y="4869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a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90560" y="4869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kan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98880" y="314172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pathisa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112760" y="495360"/>
            <a:ext cx="690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um Führungskräfte oft versage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ziehungs-Portfolio-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124000" y="213336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24000" y="602136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24000" y="256536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2000" y="2565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95640" y="2565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24000" y="414972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37640" y="613728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uer der Bezieh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80000" y="207792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ve Bedeu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86920" y="488304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87280" y="322596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34560" y="62373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Jah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47280" y="4869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a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90560" y="4869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kan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198880" y="314172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pathisa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13080" y="2565360"/>
            <a:ext cx="1727280" cy="1584360"/>
          </a:xfrm>
          <a:custGeom>
            <a:avLst/>
            <a:gdLst>
              <a:gd name="textAreaLeft" fmla="*/ 394200 w 1727280"/>
              <a:gd name="textAreaRight" fmla="*/ 1333080 w 1727280"/>
              <a:gd name="textAreaTop" fmla="*/ 361440 h 1584360"/>
              <a:gd name="textAreaBottom" fmla="*/ 12229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18200" y="314172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tsbrü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1969920"/>
            <a:ext cx="914400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Das Geheimni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der Führungspersönlichke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-396720" y="101700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as Geheimnis der Führungspersönlichkeit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5280" y="2203560"/>
            <a:ext cx="842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1. Was bedeutet mit Persönlichkeit zu führen und zu mana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ersönlichkeit = Gesamtheit der Wesenszüge und Verhaltensweis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ines Mens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ühren = Prozess der Willensbildung und Willensdurchsetz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anagen = Sinnvolle Veränderungen herbeiführen und umse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-396720" y="101700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as Geheimnis der Führungspersönlichkeit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2274840"/>
            <a:ext cx="842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2. Was zeichnet eine starke Führungspersönlichkeit a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e beherrschen den Umgang mit sich selb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e wirken aufgrund Ihrer Verhaltensweisen (Persönlichkeit) 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aben darüber hinaus spezielle Fähigkeiten (Kompeten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e arbeiten und führen ergebnisorienti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e fördern Ihre Mitarbe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-396720" y="101700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as Geheimnis der Führungspersönlichkeit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2173320"/>
            <a:ext cx="842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3. Wie kann sich eine Führungspersönlichkeit entwickel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andeln nach einem unverwechselbaren Wertekan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durch verbindliche Verabredungen mit sich selb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Ziele setzen, die sicher und berechenbar m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Was will ich erreic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Warum will ich es erreic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Was bedeutet das für And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. Auf was bin ich bereit zu verz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-396720" y="101700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as Geheimnis der Führungspersönlichkeit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5280" y="2252520"/>
            <a:ext cx="842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4. Wie wird man eine souveräne Führungspersönlichkei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ei unveränderlichen Ereignissen die Beziehung zur Situation verän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ch nicht über andere ärgern, um die Macht über sich selbst zu erhal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ch Autorität erarb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e eigenen Motive müssen auch für andere akzeptabel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Zu sich selbst so nachsichtig sein, wie zu and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1969920"/>
            <a:ext cx="914400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Das Geheimni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der Führungspersönlichke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612720" y="586800"/>
            <a:ext cx="91440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r Führungsmanager - Abla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1798560"/>
            <a:ext cx="9144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25.02.05  Das Geheimnis der Führungspersönlichkeit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H. Berge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18.03.05  Unternehmerisch handeln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H. M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29.04.05  Erfolgreiche Mitarbeiterführung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H. Do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20.05.05  Kosten senken / Rendite steigern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Prof. Gerbe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24.06.05  Gewinner – Teams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H. Rutemö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29.07.05  Verhandlungen gewinnen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H. Kalu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02.09.05  Motivation für Höchstleistungen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H. Berge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30.09.05  Reden vor Publikum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Prof. E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28.10.05  Kundenorientierung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H. Bie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25.11.05  Konflikte meistern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H. G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23.12.05  Arbeit und Projekte organisieren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F. Kell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27.01.06  Umgang mit Veränderungen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H. Bie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69920"/>
            <a:ext cx="914400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Das Geheimni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der Führungspersönlichke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396720" y="101700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as Geheimnis der Führungspersönlichkeit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96720" y="101700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as Geheimnis der Führungspersönlichkeit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2560" y="2503800"/>
            <a:ext cx="8137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Was bedeutet mit Persönlichkeit zu führen und zu mana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396720" y="101700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as Geheimnis der Führungspersönlichkeit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2560" y="2503800"/>
            <a:ext cx="8137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Was bedeutet mit Persönlichkeit zu führen und zu mana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Was zeichnet eine starke Führungspersönlichkeit a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396720" y="101700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as Geheimnis der Führungspersönlichkeit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2560" y="2503800"/>
            <a:ext cx="8137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Was bedeutet mit Persönlichkeit zu führen und zu mana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Was zeichnet eine starke Führungspersönlichkeit a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Wie kann sich eine Führungspersönlichkeit entwickel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396720" y="101700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as Geheimnis der Führungspersönlichkeit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2560" y="2503800"/>
            <a:ext cx="8137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Was bedeutet mit Persönlichkeit zu führen und zu mana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Was zeichnet eine starke Führungspersönlichkeit a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Wie kann sich eine Führungspersönlichkeit entwickel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. Wie wird man eine souveräne Führungspersönlichke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5:36:04Z</dcterms:created>
  <dc:creator>Admin</dc:creator>
  <dc:description/>
  <dc:language>en-US</dc:language>
  <cp:lastModifiedBy>Prof. Christoph Ewert</cp:lastModifiedBy>
  <dcterms:modified xsi:type="dcterms:W3CDTF">2007-11-11T11:46:53Z</dcterms:modified>
  <cp:revision>42</cp:revision>
  <dc:subject/>
  <dc:title>Folie 1</dc:title>
</cp:coreProperties>
</file>