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7093080" y="260280"/>
            <a:ext cx="1619280" cy="1112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49320" y="2132280"/>
            <a:ext cx="48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Geld machen (Besitzstreb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-181080" y="548640"/>
            <a:ext cx="914400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Umgang mit Veränderungen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edürfnis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49320" y="2132280"/>
            <a:ext cx="48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Geld machen (Besitzstreb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Geld sparen (Gei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-181080" y="548640"/>
            <a:ext cx="914400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Umgang mit Veränderungen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edürfnis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47880" y="2131920"/>
            <a:ext cx="489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Geld machen (Besitzstreb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Geld sparen (Gei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Zeit / Mühe sparen (Effizien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-181080" y="548640"/>
            <a:ext cx="914400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Umgang mit Veränderungen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edürfnis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44280" y="2131200"/>
            <a:ext cx="7017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Geld machen (Besitzstreb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Geld sparen (Gei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Zeit / Mühe sparen (Effizien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er Familie helfen (Fürsorge, Wohltätigke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-181080" y="548640"/>
            <a:ext cx="914400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Umgang mit Veränderungen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edürfnis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44280" y="2131200"/>
            <a:ext cx="7017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Geld machen (Besitzstreb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Geld sparen (Gei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Zeit / Mühe sparen (Effizien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er Familie helfen (Fürsorge, Wohltätigke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cher sein (Sicherhe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-181080" y="548640"/>
            <a:ext cx="914400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Umgang mit Veränderungen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edürfnis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44280" y="2130840"/>
            <a:ext cx="7017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Geld machen (Besitzstreb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Geld sparen (Gei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Zeit / Mühe sparen (Effizien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er Familie helfen (Fürsorge, Wohltätigke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cher sein (Sicherhe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nderen imponieren (Hel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-181080" y="548640"/>
            <a:ext cx="914400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Umgang mit Veränderungen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edürfnis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44280" y="2130480"/>
            <a:ext cx="7017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Geld machen (Besitzstreb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Geld sparen (Gei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Zeit / Mühe sparen (Effizien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er Familie helfen (Fürsorge, Wohltätigke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cher sein (Sicherhe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nderen imponieren (Hel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it sich zufrieden sein (Selbstachtu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-181080" y="548640"/>
            <a:ext cx="914400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Umgang mit Veränderungen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edürfnis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45720" y="2130120"/>
            <a:ext cx="7590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Geld machen (Besitzstreb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Geld sparen (Gei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Zeit / Mühe sparen (Effizien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er Familie helfen (Fürsorge, Wohltätigke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cher sein (Sicherhe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nderen imponieren (Hel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it sich zufrieden sein (Selbstachtu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lbstentfaltung fördern (Selbstverwirklichu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-181080" y="548640"/>
            <a:ext cx="914400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Umgang mit Veränderungen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edürfnis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45720" y="2130120"/>
            <a:ext cx="7590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Geld machen (Besitzstreb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Geld sparen (Gei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Zeit / Mühe sparen (Effizien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er Familie helfen (Fürsorge, Wohltätigke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cher sein (Sicherhe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nderen imponieren (Hel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it sich zufrieden sein (Selbstachtu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lbstentfaltung fördern (Selbstverwirklichu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Zugehörigkeit spüren (Akzeptanz, Dabei se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-181080" y="548640"/>
            <a:ext cx="914400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Umgang mit Veränderungen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edürfnis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45720" y="2129760"/>
            <a:ext cx="7590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Geld machen (Besitzstreb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Geld sparen (Gei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Zeit / Mühe sparen (Effizien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er Familie helfen (Fürsorge, Wohltätigke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cher sein (Sicherhe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nderen imponieren (Hel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it sich zufrieden sein (Selbstachtu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lbstentfaltung fördern (Selbstverwirklichu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Zugehörigkeit spüren (Akzeptanz, Dabei se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Vergnügen haben (Spaß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-181080" y="548640"/>
            <a:ext cx="914400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Umgang mit Veränderungen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edürfnis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686960"/>
            <a:ext cx="9144000" cy="27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Umgang mit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Veränderunge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2083680"/>
            <a:ext cx="9144000" cy="19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Umgang mit Veränderung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Der Ablauf des Veränderungsproz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724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760920" y="1592280"/>
            <a:ext cx="1536480" cy="1494000"/>
          </a:xfrm>
          <a:prstGeom prst="ellipse">
            <a:avLst/>
          </a:prstGeom>
          <a:solidFill>
            <a:srgbClr val="bbe0e3">
              <a:alpha val="60000"/>
            </a:srgbClr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6680" rIns="76680" tIns="38520" bIns="38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entury Gothic"/>
              </a:rPr>
              <a:t>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-181080" y="302760"/>
            <a:ext cx="914400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Umgang mit Veränderungen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Der Veränderungsproz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86760" cy="6919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760920" y="1592280"/>
            <a:ext cx="1536480" cy="1494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6680" rIns="76680" tIns="38520" bIns="38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entury Gothic"/>
              </a:rPr>
              <a:t>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18160" y="2487600"/>
            <a:ext cx="1536840" cy="1494000"/>
          </a:xfrm>
          <a:prstGeom prst="ellipse">
            <a:avLst/>
          </a:prstGeom>
          <a:solidFill>
            <a:srgbClr val="bbe0e3">
              <a:alpha val="60000"/>
            </a:srgbClr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6680" rIns="76680" tIns="38520" bIns="38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entury Gothic"/>
              </a:rPr>
              <a:t>Präp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-181080" y="302760"/>
            <a:ext cx="914400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Umgang mit Veränderungen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Der Veränderungsproz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760920" y="1592280"/>
            <a:ext cx="1536480" cy="1494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6680" rIns="76680" tIns="38520" bIns="38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entury Gothic"/>
              </a:rPr>
              <a:t>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618160" y="2487600"/>
            <a:ext cx="1536840" cy="1494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6680" rIns="76680" tIns="38520" bIns="38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entury Gothic"/>
              </a:rPr>
              <a:t>Präp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630760" y="4141800"/>
            <a:ext cx="1536840" cy="1494000"/>
          </a:xfrm>
          <a:prstGeom prst="ellipse">
            <a:avLst/>
          </a:prstGeom>
          <a:solidFill>
            <a:srgbClr val="bbe0e3">
              <a:alpha val="60000"/>
            </a:srgbClr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6680" rIns="76680" tIns="38520" bIns="38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entury Gothic"/>
              </a:rPr>
              <a:t>Inkub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181080" y="302760"/>
            <a:ext cx="914400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Umgang mit Veränderungen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Der Veränderungsproz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760920" y="1592280"/>
            <a:ext cx="1536480" cy="1494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6680" rIns="76680" tIns="38520" bIns="38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entury Gothic"/>
              </a:rPr>
              <a:t>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618160" y="2487600"/>
            <a:ext cx="1536840" cy="1494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6680" rIns="76680" tIns="38520" bIns="38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entury Gothic"/>
              </a:rPr>
              <a:t>Präp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630760" y="4141800"/>
            <a:ext cx="1536840" cy="1494000"/>
          </a:xfrm>
          <a:prstGeom prst="ellipse">
            <a:avLst/>
          </a:prstGeom>
          <a:solidFill>
            <a:srgbClr val="ffffff">
              <a:alpha val="60000"/>
            </a:srgbClr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6680" rIns="76680" tIns="38520" bIns="38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entury Gothic"/>
              </a:rPr>
              <a:t>Inkub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74960" y="5037120"/>
            <a:ext cx="1538280" cy="1494000"/>
          </a:xfrm>
          <a:prstGeom prst="ellipse">
            <a:avLst/>
          </a:prstGeom>
          <a:solidFill>
            <a:srgbClr val="bbe0e3">
              <a:alpha val="60000"/>
            </a:srgbClr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6680" rIns="76680" tIns="38520" bIns="38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entury Gothic"/>
              </a:rPr>
              <a:t>Illu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-181080" y="302760"/>
            <a:ext cx="914400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Umgang mit Veränderungen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Der Veränderungsproz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760920" y="1592280"/>
            <a:ext cx="1536480" cy="1494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6680" rIns="76680" tIns="38520" bIns="38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entury Gothic"/>
              </a:rPr>
              <a:t>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618160" y="2487600"/>
            <a:ext cx="1536840" cy="1494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6680" rIns="76680" tIns="38520" bIns="38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entury Gothic"/>
              </a:rPr>
              <a:t>Präp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30760" y="4141800"/>
            <a:ext cx="1536840" cy="1494000"/>
          </a:xfrm>
          <a:prstGeom prst="ellipse">
            <a:avLst/>
          </a:prstGeom>
          <a:solidFill>
            <a:srgbClr val="ffffff">
              <a:alpha val="60000"/>
            </a:srgbClr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6680" rIns="76680" tIns="38520" bIns="38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entury Gothic"/>
              </a:rPr>
              <a:t>Inkub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774960" y="5037120"/>
            <a:ext cx="1538280" cy="1494000"/>
          </a:xfrm>
          <a:prstGeom prst="ellipse">
            <a:avLst/>
          </a:prstGeom>
          <a:solidFill>
            <a:srgbClr val="ffffff">
              <a:alpha val="60000"/>
            </a:srgbClr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6680" rIns="76680" tIns="38520" bIns="38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entury Gothic"/>
              </a:rPr>
              <a:t>Illu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55720" y="4145040"/>
            <a:ext cx="1536840" cy="1493640"/>
          </a:xfrm>
          <a:prstGeom prst="ellipse">
            <a:avLst/>
          </a:prstGeom>
          <a:solidFill>
            <a:srgbClr val="bbe0e3">
              <a:alpha val="60000"/>
            </a:srgbClr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6680" rIns="76680" tIns="38520" bIns="38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entury Gothic"/>
              </a:rPr>
              <a:t>Verifik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-181080" y="302760"/>
            <a:ext cx="914400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Umgang mit Veränderungen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Der Veränderungsproz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760920" y="1592280"/>
            <a:ext cx="1536480" cy="1494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6680" rIns="76680" tIns="38520" bIns="38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entury Gothic"/>
              </a:rPr>
              <a:t>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594400" y="2365200"/>
            <a:ext cx="1536480" cy="1494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6680" rIns="76680" tIns="38520" bIns="38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entury Gothic"/>
              </a:rPr>
              <a:t>Präp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583240" y="4191120"/>
            <a:ext cx="1538280" cy="1493640"/>
          </a:xfrm>
          <a:prstGeom prst="ellipse">
            <a:avLst/>
          </a:prstGeom>
          <a:solidFill>
            <a:srgbClr val="ffffff">
              <a:alpha val="60000"/>
            </a:srgbClr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6680" rIns="76680" tIns="38520" bIns="38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entury Gothic"/>
              </a:rPr>
              <a:t>Inkub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774960" y="5037120"/>
            <a:ext cx="1538280" cy="1494000"/>
          </a:xfrm>
          <a:prstGeom prst="ellipse">
            <a:avLst/>
          </a:prstGeom>
          <a:solidFill>
            <a:srgbClr val="ffffff">
              <a:alpha val="60000"/>
            </a:srgbClr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6680" rIns="76680" tIns="38520" bIns="38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entury Gothic"/>
              </a:rPr>
              <a:t>Illu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968480" y="4218120"/>
            <a:ext cx="1536840" cy="1493640"/>
          </a:xfrm>
          <a:prstGeom prst="ellipse">
            <a:avLst/>
          </a:prstGeom>
          <a:solidFill>
            <a:srgbClr val="ffffff">
              <a:alpha val="60000"/>
            </a:srgbClr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6680" rIns="76680" tIns="38520" bIns="38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entury Gothic"/>
              </a:rPr>
              <a:t>Verifik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957320" y="2370240"/>
            <a:ext cx="1536840" cy="1493640"/>
          </a:xfrm>
          <a:prstGeom prst="ellipse">
            <a:avLst/>
          </a:prstGeom>
          <a:solidFill>
            <a:srgbClr val="bbe0e3">
              <a:alpha val="60000"/>
            </a:srgbClr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6680" rIns="76680" tIns="38520" bIns="38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Century Gothic"/>
              </a:rPr>
              <a:t>Kommuni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Century Gothic"/>
              </a:rPr>
              <a:t>k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-181080" y="302760"/>
            <a:ext cx="914400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Umgang mit Veränderungen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Der Veränderungsproz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5594400" y="2365200"/>
            <a:ext cx="1536480" cy="1494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6680" rIns="76680" tIns="38520" bIns="38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entury Gothic"/>
              </a:rPr>
              <a:t>Präp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583240" y="4191120"/>
            <a:ext cx="1538280" cy="1493640"/>
          </a:xfrm>
          <a:prstGeom prst="ellipse">
            <a:avLst/>
          </a:prstGeom>
          <a:solidFill>
            <a:srgbClr val="ffffff">
              <a:alpha val="60000"/>
            </a:srgbClr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6680" rIns="76680" tIns="38520" bIns="38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entury Gothic"/>
              </a:rPr>
              <a:t>Inkub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774960" y="5037120"/>
            <a:ext cx="1538280" cy="1494000"/>
          </a:xfrm>
          <a:prstGeom prst="ellipse">
            <a:avLst/>
          </a:prstGeom>
          <a:solidFill>
            <a:srgbClr val="ffffff">
              <a:alpha val="60000"/>
            </a:srgbClr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6680" rIns="76680" tIns="38520" bIns="38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entury Gothic"/>
              </a:rPr>
              <a:t>Illu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68480" y="4218120"/>
            <a:ext cx="1536840" cy="1493640"/>
          </a:xfrm>
          <a:prstGeom prst="ellipse">
            <a:avLst/>
          </a:prstGeom>
          <a:solidFill>
            <a:srgbClr val="ffffff">
              <a:alpha val="60000"/>
            </a:srgbClr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6680" rIns="76680" tIns="38520" bIns="38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entury Gothic"/>
              </a:rPr>
              <a:t>Verifik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957320" y="2370240"/>
            <a:ext cx="1536840" cy="1493640"/>
          </a:xfrm>
          <a:prstGeom prst="ellipse">
            <a:avLst/>
          </a:prstGeom>
          <a:solidFill>
            <a:srgbClr val="ffffff">
              <a:alpha val="60000"/>
            </a:srgbClr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6680" rIns="76680" tIns="38520" bIns="38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Century Gothic"/>
              </a:rPr>
              <a:t>Kommuni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Century Gothic"/>
              </a:rPr>
              <a:t>k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760920" y="1592280"/>
            <a:ext cx="1536480" cy="1494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6680" rIns="76680" tIns="38520" bIns="38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entury Gothic"/>
              </a:rPr>
              <a:t>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87880" y="2816280"/>
            <a:ext cx="2435040" cy="25225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707640" y="3919680"/>
            <a:ext cx="1595880" cy="3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680" rIns="76680" tIns="38520" bIns="38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Fru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-181080" y="302760"/>
            <a:ext cx="914400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Umgang mit Veränderungen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Der Veränderungsproz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-181080" y="834480"/>
            <a:ext cx="914400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Umgang mit Veränderungen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Lernzie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2560" y="2132640"/>
            <a:ext cx="7777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1. Warum leiden Mitarbeiter oft unter Veränderungen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-181080" y="834480"/>
            <a:ext cx="914400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Umgang mit Veränderungen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Lernzie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8360" y="1914840"/>
            <a:ext cx="8569440" cy="49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333399"/>
                </a:solidFill>
                <a:uFillTx/>
                <a:latin typeface="Arial"/>
              </a:rPr>
              <a:t>1. Warum leiden Mitarbeiter unter Veränderung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Fehlende Qualifikation, Ausbildung, Könn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(Was kann ich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Abweichung „Selbstbild“ ggü. „Fremdeinschätzung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(Was will ich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Gefahr, Freiräume zu verlier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(Was darf ich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Fehlendes Lob und Anerkennung der geleisteten Arbe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(Was habe ich gemacht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Keine Wertschätzung der Pers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333399"/>
                </a:solidFill>
                <a:latin typeface="Arial"/>
              </a:rPr>
              <a:t>(Wer bin ich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-181080" y="834480"/>
            <a:ext cx="914400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Umgang mit Veränderungen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Lernzie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95280" y="2275200"/>
            <a:ext cx="856944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2. Welche Phasen kennzeichnen Veränderungsprozesse im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Unternehm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. Euphorie (oder Sor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B. Sch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. Ablehn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. Einsi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-181080" y="834480"/>
            <a:ext cx="914400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Umgang mit Veränderungen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Lernzie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95280" y="1914840"/>
            <a:ext cx="8569440" cy="45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3. Wie kann ein Veränderungsprozess sinnvoll angegangen werd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Vision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(Gewünschten zukünftigen Zielzustand formulier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räparation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(Was muss man wissen, um kompetent agieren zu könn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Inkubation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(Sammeln von Alternativen durch Einsatz von Kreativtechnik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Illumination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(Finden der besten, umsetzbaren Alternative)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Verifikation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(Die Lösung den Verantwortlichen „verkaufen“)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Kommunikation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(Für Akzeptanz und Umsetzung sorgen)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-181080" y="834480"/>
            <a:ext cx="914400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Umgang mit Veränderungen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Lernzie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95280" y="2138760"/>
            <a:ext cx="8569440" cy="43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4. Welche Verhaltensweisen müssen die Führungskräfte be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Veränderungsprozessen einhalt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Klare Ziele formuli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Nutzen transporti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Klare Strukturen vorge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Offenheit um jeden Pre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Kritische Massen erzeu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Umgang mit Ablehnung und Einsi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-181080" y="834480"/>
            <a:ext cx="914400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Umgang mit Veränderungen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Lernzie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95280" y="2067120"/>
            <a:ext cx="8569440" cy="40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5. Wie motiviert man Mitarbeiter, anstehende Veränderungen positi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anzugeh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Geld machen (Besitzstreb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Geld sparen (Gei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Zeit / Mühe sparen (Effizien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er Familie helfen (Fürsorge, Wohltätigke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icher sein (Sicherhe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nderen imponieren (Hel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Mit sich zufrieden sein (Selbstachtu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elbstentfaltung fördern (Selbstverwirklichu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Zugehörigkeit spüren (Akzeptanz, Dabei se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Vergnügen haben (Spaß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1686960"/>
            <a:ext cx="9144000" cy="27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Umgang mit Veränderunge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-181080" y="834480"/>
            <a:ext cx="914400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Umgang mit Veränderungen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Lernzie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2560" y="2132280"/>
            <a:ext cx="7777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1. Warum leiden Mitarbeiter oft unter Veränderungen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2. Welche Phasen kennzeichnen Veränderungsprozes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im Unternehm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-181080" y="834480"/>
            <a:ext cx="914400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Umgang mit Veränderungen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Lernzie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2560" y="2132280"/>
            <a:ext cx="77770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1. Warum leiden Mitarbeiter oft unter Veränderungen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2. Welche Phasen kennzeichnen Veränderungsprozes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im Unternehm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3. Wie kann ein Veränderungsprozess sinnvoll angegang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werd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-181080" y="834480"/>
            <a:ext cx="914400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Umgang mit Veränderungen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Lernzie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2560" y="2131920"/>
            <a:ext cx="77770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1. Warum leiden Mitarbeiter oft unter Veränderungen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2. Welche Phasen kennzeichnen Veränderungsprozes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im Unternehm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3. Wie kann ein Veränderungsprozess sinnvoll angegang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werd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4. Welche Verhaltensweisen müssen die Führungskräfte be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Veränderungsprozessen einhalten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-181080" y="834480"/>
            <a:ext cx="914400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Umgang mit Veränderungen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Lernzie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2560" y="2130120"/>
            <a:ext cx="77770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1. Warum leiden Mitarbeiter oft unter Veränderungen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2. Welche Phasen kennzeichnen Veränderungsprozes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im Unternehm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3. Wie kann ein Veränderungsprozess sinnvoll angegang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werd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4. Welche Verhaltensweisen müssen die Führungskräfte be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Veränderungsprozessen einhalten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5. Wie motiviert man Mitarbeiter, anstehende Veränderung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ositiv anzugeh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2235240"/>
            <a:ext cx="9144000" cy="16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Umgang mit Veränder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Bedürfnisse bei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wirtschaftlichen Transaktion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3168720"/>
            <a:ext cx="8135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7T15:36:04Z</dcterms:created>
  <dc:creator>Admin</dc:creator>
  <dc:description/>
  <dc:language>en-US</dc:language>
  <cp:lastModifiedBy>Christoph</cp:lastModifiedBy>
  <dcterms:modified xsi:type="dcterms:W3CDTF">2005-12-18T21:05:22Z</dcterms:modified>
  <cp:revision>37</cp:revision>
  <dc:subject/>
  <dc:title>Folie 1</dc:title>
</cp:coreProperties>
</file>